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79C1-E062-4549-BD40-1777B13F9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14040" y="3588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6DFC-67D8-49C3-B7A9-AC5500C5D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01372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A047-13FF-4B22-BEFF-3FCFAC98B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194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248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140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6194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248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F33B-7FD8-4ACF-BE0D-E538B0A71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871BF-EBD0-40F2-BC26-E43D4367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CAD73-9994-4B2B-AC31-532C04EB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7F315-9B06-4D62-9B44-3CC478DF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333D3-A97F-4B14-8590-8AF2E483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48C16-C365-4BC7-8FBA-33991675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76360" y="152280"/>
            <a:ext cx="5715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7CB63-6E08-41EC-883C-F7CAC494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123CC-61B4-40E3-909D-E929CE1C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26BE-607E-4AED-A038-2BD94346D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372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0BAEF-8B8D-42D3-BB30-4025F9F5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6B8E5-957F-4BC7-929A-2363990A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4040" y="3588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98B59-EA49-4229-8038-D9CD324B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1372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E5868-B391-4BD7-85D5-3203C9A5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194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248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40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194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248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9AFB1-2438-4155-8131-4E1A5587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E6EA-2837-4D97-B08F-429FF8807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9DDC-C21B-4BBE-8915-F89FB3897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8B8D-01AD-409A-A70A-021E2C834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276360" y="152280"/>
            <a:ext cx="5715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E424-58E9-401F-9CE1-1C4994071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D8FE-D6AB-4E1D-932C-B06BB913F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1372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7001-EF7F-48EF-9428-C28D6B891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25A2-B50F-478E-82E8-BD28A8C63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Master%20Index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00400" y="0"/>
            <a:ext cx="5943600" cy="762120"/>
          </a:xfrm>
          <a:prstGeom prst="rect">
            <a:avLst/>
          </a:prstGeom>
          <a:solidFill>
            <a:srgbClr val="e4e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B517-324B-46CB-AB9E-78777FC7656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28600" y="6172200"/>
            <a:ext cx="7391520" cy="166680"/>
            <a:chOff x="228600" y="6172200"/>
            <a:chExt cx="7391520" cy="166680"/>
          </a:xfrm>
        </p:grpSpPr>
        <p:sp>
          <p:nvSpPr>
            <p:cNvPr id="9" name=""/>
            <p:cNvSpPr/>
            <p:nvPr/>
          </p:nvSpPr>
          <p:spPr>
            <a:xfrm>
              <a:off x="609480" y="6172200"/>
              <a:ext cx="7010640" cy="165600"/>
            </a:xfrm>
            <a:prstGeom prst="roundRect">
              <a:avLst>
                <a:gd name="adj" fmla="val 0"/>
              </a:avLst>
            </a:prstGeom>
            <a:solidFill>
              <a:srgbClr val="9b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28600" y="6172200"/>
              <a:ext cx="393840" cy="166680"/>
            </a:xfrm>
            <a:prstGeom prst="flowChartDelay">
              <a:avLst/>
            </a:prstGeom>
            <a:solidFill>
              <a:srgbClr val="9b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>
            <a:hlinkClick r:id="rId2"/>
          </p:cNvPr>
          <p:cNvSpPr/>
          <p:nvPr/>
        </p:nvSpPr>
        <p:spPr>
          <a:xfrm>
            <a:off x="3352680" y="6400800"/>
            <a:ext cx="1067040" cy="307080"/>
          </a:xfrm>
          <a:prstGeom prst="rect">
            <a:avLst/>
          </a:prstGeom>
          <a:solidFill>
            <a:srgbClr val="91adc2"/>
          </a:solidFill>
          <a:ln w="0">
            <a:noFill/>
          </a:ln>
          <a:effectLst>
            <a:outerShdw dist="17819" dir="2700000" blurRad="0" rotWithShape="0">
              <a:srgbClr val="9bc3c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 flipV="1">
            <a:off x="8305560" y="6552720"/>
            <a:ext cx="15228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763120" y="6553080"/>
            <a:ext cx="152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3" action="ppaction://hlinksldjump"/>
          </p:cNvPr>
          <p:cNvSpPr/>
          <p:nvPr/>
        </p:nvSpPr>
        <p:spPr>
          <a:xfrm>
            <a:off x="4724280" y="6400800"/>
            <a:ext cx="914400" cy="307080"/>
          </a:xfrm>
          <a:prstGeom prst="rect">
            <a:avLst/>
          </a:prstGeom>
          <a:solidFill>
            <a:srgbClr val="91adc2"/>
          </a:solidFill>
          <a:ln w="0">
            <a:noFill/>
          </a:ln>
          <a:effectLst>
            <a:outerShdw dist="17819" dir="2700000" blurRad="0" rotWithShape="0">
              <a:srgbClr val="9bc3c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057400" y="0"/>
            <a:ext cx="457200" cy="762120"/>
          </a:xfrm>
          <a:prstGeom prst="rect">
            <a:avLst/>
          </a:prstGeom>
          <a:solidFill>
            <a:srgbClr val="6b94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1066680" y="0"/>
            <a:ext cx="2362320" cy="762120"/>
            <a:chOff x="1066680" y="0"/>
            <a:chExt cx="2362320" cy="762120"/>
          </a:xfrm>
        </p:grpSpPr>
        <p:sp>
          <p:nvSpPr>
            <p:cNvPr id="17" name=""/>
            <p:cNvSpPr/>
            <p:nvPr/>
          </p:nvSpPr>
          <p:spPr>
            <a:xfrm>
              <a:off x="2514600" y="0"/>
              <a:ext cx="380880" cy="762120"/>
            </a:xfrm>
            <a:prstGeom prst="rect">
              <a:avLst/>
            </a:prstGeom>
            <a:solidFill>
              <a:srgbClr val="5f99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895480" y="0"/>
              <a:ext cx="304920" cy="762120"/>
            </a:xfrm>
            <a:prstGeom prst="rect">
              <a:avLst/>
            </a:prstGeom>
            <a:solidFill>
              <a:srgbClr val="9bc3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00200" y="0"/>
              <a:ext cx="457200" cy="762120"/>
            </a:xfrm>
            <a:prstGeom prst="rect">
              <a:avLst/>
            </a:prstGeom>
            <a:solidFill>
              <a:srgbClr val="6b9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057400" y="0"/>
              <a:ext cx="457200" cy="762120"/>
            </a:xfrm>
            <a:prstGeom prst="rect">
              <a:avLst/>
            </a:prstGeom>
            <a:solidFill>
              <a:srgbClr val="5f99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066680" y="0"/>
              <a:ext cx="533520" cy="762120"/>
            </a:xfrm>
            <a:prstGeom prst="rect">
              <a:avLst/>
            </a:prstGeom>
            <a:solidFill>
              <a:srgbClr val="7a9c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0"/>
              <a:ext cx="228600" cy="762120"/>
            </a:xfrm>
            <a:prstGeom prst="rect">
              <a:avLst/>
            </a:prstGeom>
            <a:solidFill>
              <a:srgbClr val="9bc3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1ad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b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b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dt" idx="2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3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4"/>
          </p:nvPr>
        </p:nvSpPr>
        <p:spPr>
          <a:xfrm>
            <a:off x="10800" y="5962320"/>
            <a:ext cx="5857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DCC4-00A9-4436-AAD9-00F2054BD8F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93816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4.xml"/><Relationship Id="rId16" Type="http://schemas.openxmlformats.org/officeDocument/2006/relationships/slide" Target="slide31.xml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4C8B826-BD68-4195-A821-B39EC255F56B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08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0" y="685800"/>
            <a:ext cx="4191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3" action="ppaction://hlinksldjump"/>
              </a:rPr>
              <a:t>Tree Structur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3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4" action="ppaction://hlinksldjump"/>
              </a:rPr>
              <a:t>Tree Node Level and Path L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5" action="ppaction://hlinksldjump"/>
              </a:rPr>
              <a:t>Binary Tree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6" action="ppaction://hlinksldjump"/>
              </a:rPr>
              <a:t>Selected Samples / Binary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7" action="ppaction://hlinksldjump"/>
              </a:rPr>
              <a:t>Binary Tre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8" action="ppaction://hlinksldjump"/>
              </a:rPr>
              <a:t>Binary Search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9" action="ppaction://hlinksldjump"/>
              </a:rPr>
              <a:t>Locating Data in a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0" action="ppaction://hlinksldjump"/>
              </a:rPr>
              <a:t>Removing a Binary Tre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1" action="ppaction://hlinksldjump"/>
              </a:rPr>
              <a:t>stree</a:t>
            </a: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2" action="ppaction://hlinksldjump"/>
              </a:rPr>
              <a:t> ADT (4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3" action="ppaction://hlinksldjump"/>
              </a:rPr>
              <a:t>Using Binary Search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Removing Duplic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4" action="ppaction://hlinksldjump"/>
              </a:rPr>
              <a:t>Update Operati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3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5" action="ppaction://hlinksldjump"/>
              </a:rPr>
              <a:t>Removing an Item From a Binary Tr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7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9997"/>
                </a:solidFill>
                <a:latin typeface="Arial"/>
              </a:rPr>
              <a:t>Chapter 1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9997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5f9997"/>
                </a:solidFill>
                <a:latin typeface="Arial"/>
              </a:rPr>
              <a:t>Binary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762120"/>
            <a:ext cx="4191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6" action="ppaction://hlinksldjump"/>
              </a:rPr>
              <a:t>Summary Slide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(5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C5B8-6102-4316-8656-31C6A473D8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Binary Tree Definition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nary tree T is a finite set of nodes with one of the following proper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  T is a tree if the set of nodes is empty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(An empty tree is a tre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  The set consists of a root, R, and exactly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distinct binary trees, the left subtre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right subtre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nodes in T consist of n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R and all the nodes i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538C-670B-4D3B-AA44-A30A488C59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C260A9F-7E97-41C1-B5B6-F74BFAA4A791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227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Selected Samples of Binary Tree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2280" y="1066680"/>
          <a:ext cx="8839440" cy="465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066680"/>
                    <a:ext cx="883944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BF7A-BBD2-49D3-825B-6C1FF30629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8D7E353-CC71-40B1-847D-DB60A28BDE8F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240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Binary Tree Node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-76320" y="-42840"/>
          <a:ext cx="3346560" cy="34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-42840"/>
                    <a:ext cx="3346560" cy="34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76320" y="2738520"/>
          <a:ext cx="9144000" cy="35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2738520"/>
                    <a:ext cx="914400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B1C5-54BE-47EB-8C91-E862B9C482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D28C85B-EDBA-49CE-AA71-94CCCCB1F918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255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Binary Search Tree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0" y="304920"/>
          <a:ext cx="5562720" cy="38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04920"/>
                    <a:ext cx="556272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685800" y="4191120"/>
          <a:ext cx="4191120" cy="18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191120"/>
                    <a:ext cx="4191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4419720" y="838080"/>
          <a:ext cx="4287600" cy="434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838080"/>
                    <a:ext cx="4287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0BE9-A112-486A-9FEA-F8551FB4E7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D030EE5-6937-4672-BEC5-536B4B08BF5D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272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0" y="2895480"/>
          <a:ext cx="9248760" cy="341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895480"/>
                    <a:ext cx="92487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0" y="228600"/>
            <a:ext cx="914400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Curr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Nod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A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264443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264443"/>
                </a:solidFill>
                <a:latin typeface="Arial"/>
              </a:rPr>
              <a:t>LOCATING DATA IN A TRE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oot = 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e item = 37 and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7 &lt; 50, move to the left sub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 = 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e item = 37 and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7 &gt; 30, move to the right sub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 = 3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e item = 37 and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7 &gt; 35, move to the right sub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 = 3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e item = 37 and 37. Item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283C-E668-4C5C-A491-67683A1F45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E72AB56-B481-46EE-80FE-B30327B1E7B9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285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Removing a Binary Search Tree Node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0"/>
          <a:ext cx="4495680" cy="31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4956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0" y="2971800"/>
          <a:ext cx="9144000" cy="330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971800"/>
                    <a:ext cx="914400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B689-E24A-418E-9872-29F9BA82B0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96E081D-E24D-453A-83AF-5F344DEF407B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300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0" y="0"/>
            <a:ext cx="9144000" cy="2895480"/>
            <a:chOff x="0" y="0"/>
            <a:chExt cx="9144000" cy="2895480"/>
          </a:xfrm>
        </p:grpSpPr>
        <p:sp>
          <p:nvSpPr>
            <p:cNvPr id="307" name=""/>
            <p:cNvSpPr/>
            <p:nvPr/>
          </p:nvSpPr>
          <p:spPr>
            <a:xfrm>
              <a:off x="0" y="533520"/>
              <a:ext cx="9144000" cy="236196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0" y="0"/>
              <a:ext cx="9143640" cy="592200"/>
              <a:chOff x="0" y="0"/>
              <a:chExt cx="9143640" cy="59220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0"/>
                <a:ext cx="9143640" cy="5922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74520"/>
                <a:ext cx="70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LASS str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93200" y="76320"/>
                <a:ext cx="766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nstructo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62360" y="74520"/>
                <a:ext cx="35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“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_stree.h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0" y="609480"/>
              <a:ext cx="914400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stre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reate an empty search tre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1600200"/>
              <a:ext cx="9144000" cy="12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stre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T *first, T *last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reate a search tree with the elements from the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inter range [first, last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0" y="2895480"/>
            <a:ext cx="9144000" cy="3276720"/>
            <a:chOff x="0" y="2895480"/>
            <a:chExt cx="9144000" cy="3276720"/>
          </a:xfrm>
        </p:grpSpPr>
        <p:sp>
          <p:nvSpPr>
            <p:cNvPr id="316" name=""/>
            <p:cNvSpPr/>
            <p:nvPr/>
          </p:nvSpPr>
          <p:spPr>
            <a:xfrm>
              <a:off x="0" y="3429000"/>
              <a:ext cx="9144000" cy="274320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0" y="2895480"/>
              <a:ext cx="9143640" cy="592200"/>
              <a:chOff x="0" y="2895480"/>
              <a:chExt cx="9143640" cy="592200"/>
            </a:xfrm>
          </p:grpSpPr>
          <p:sp>
            <p:nvSpPr>
              <p:cNvPr id="318" name=""/>
              <p:cNvSpPr/>
              <p:nvPr/>
            </p:nvSpPr>
            <p:spPr>
              <a:xfrm>
                <a:off x="0" y="2895480"/>
                <a:ext cx="9143640" cy="5922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2970000"/>
                <a:ext cx="70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LASS str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393200" y="2971800"/>
                <a:ext cx="766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per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562360" y="2970000"/>
                <a:ext cx="35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“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_stree.h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0" y="3505320"/>
              <a:ext cx="9144000" cy="152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id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displayTre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int maxCharacters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splay the search tree. The maximum number of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acters needed to output a node value is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xCharacter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5105520"/>
              <a:ext cx="914400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ool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turn true if the tree is empty and false otherwis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CA32-C28C-40C7-A8F2-C8781E31E1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A2B1BD2-AE42-41A4-B426-B0D2F7A5EDE8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0" y="0"/>
            <a:ext cx="9144000" cy="6172200"/>
            <a:chOff x="0" y="0"/>
            <a:chExt cx="9144000" cy="6172200"/>
          </a:xfrm>
        </p:grpSpPr>
        <p:sp>
          <p:nvSpPr>
            <p:cNvPr id="335" name=""/>
            <p:cNvSpPr/>
            <p:nvPr/>
          </p:nvSpPr>
          <p:spPr>
            <a:xfrm>
              <a:off x="0" y="533520"/>
              <a:ext cx="9144000" cy="563868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0" y="0"/>
              <a:ext cx="9143640" cy="592200"/>
              <a:chOff x="0" y="0"/>
              <a:chExt cx="9143640" cy="59220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0"/>
                <a:ext cx="9143640" cy="5922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74520"/>
                <a:ext cx="70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LASS str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393200" y="76320"/>
                <a:ext cx="766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per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62360" y="74520"/>
                <a:ext cx="35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“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_stree.h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0" y="609480"/>
              <a:ext cx="9144000" cy="23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eras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const T&amp; item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arch the tree and remove item, if it is present;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therwise, take no action. Return the number of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ements remov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tcondition: If item is located in the tree, the size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 the tree decreases by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3048120"/>
              <a:ext cx="9144000" cy="24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id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eras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iterator pos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rase the item pointed to the iterator pos.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condit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tree is not empty and pos points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 an item in the tree. If the iterator is invalid, th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unction throws the referenceError exception.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tcondition: The tree size decreases by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9DD4-CC7C-416A-A723-F7A7A01010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60BBDB6-8BB5-496A-AA62-8F18C85996DD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347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0" y="0"/>
            <a:ext cx="9144000" cy="6172200"/>
            <a:chOff x="0" y="0"/>
            <a:chExt cx="9144000" cy="6172200"/>
          </a:xfrm>
        </p:grpSpPr>
        <p:sp>
          <p:nvSpPr>
            <p:cNvPr id="354" name=""/>
            <p:cNvSpPr/>
            <p:nvPr/>
          </p:nvSpPr>
          <p:spPr>
            <a:xfrm>
              <a:off x="0" y="533520"/>
              <a:ext cx="9144000" cy="563868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3640" cy="592200"/>
              <a:chOff x="0" y="0"/>
              <a:chExt cx="9143640" cy="592200"/>
            </a:xfrm>
          </p:grpSpPr>
          <p:sp>
            <p:nvSpPr>
              <p:cNvPr id="356" name=""/>
              <p:cNvSpPr/>
              <p:nvPr/>
            </p:nvSpPr>
            <p:spPr>
              <a:xfrm>
                <a:off x="0" y="0"/>
                <a:ext cx="9143640" cy="5922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74520"/>
                <a:ext cx="70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LASS str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93200" y="76320"/>
                <a:ext cx="766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per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562360" y="74520"/>
                <a:ext cx="35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“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_stree.h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0" y="609480"/>
              <a:ext cx="9144000" cy="24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id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eras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iterator first, iterator last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move all items in the iterator range [first, last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condition: The tree is not empty. If empty, the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unction throws the underflowError exception.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tcondition: The size of the tree decreases by the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umber of items in the rang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3200400"/>
              <a:ext cx="9144000" cy="21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erator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find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const T&amp; item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arch the tree by comparing item with the data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alues in a path of nodes from the root of the tree. If a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tch occurs, return an iterator pointing to th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tching value in the tree. If item is not in the tree,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turn the iterator value end(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1492-5584-47D7-B4AE-6F30BDF2CB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A05AAC2-EE33-4348-963C-72F7FBD00DBA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366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0" y="0"/>
            <a:ext cx="9144000" cy="6172200"/>
            <a:chOff x="0" y="0"/>
            <a:chExt cx="9144000" cy="6172200"/>
          </a:xfrm>
        </p:grpSpPr>
        <p:sp>
          <p:nvSpPr>
            <p:cNvPr id="373" name=""/>
            <p:cNvSpPr/>
            <p:nvPr/>
          </p:nvSpPr>
          <p:spPr>
            <a:xfrm>
              <a:off x="0" y="533520"/>
              <a:ext cx="9144000" cy="563868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0" y="0"/>
              <a:ext cx="9143640" cy="592200"/>
              <a:chOff x="0" y="0"/>
              <a:chExt cx="9143640" cy="59220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0"/>
                <a:ext cx="9143640" cy="5922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74520"/>
                <a:ext cx="70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LASS str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393200" y="76320"/>
                <a:ext cx="766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per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562360" y="74520"/>
                <a:ext cx="35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“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_stree.h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0" y="609480"/>
              <a:ext cx="9144000" cy="32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iar&lt;iterator, bool&gt;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inser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const T&amp; item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f item is not in the tree, insert it and return an iterator-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ool pair where the iterator is the location of the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element and the Boolean value is true. If item is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ready in the tree, return the pair where the iterator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ocates the existing item and the Boolean value is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ls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tcondition: The size of the tree is increased by 1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f item is not present in the tre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3962520"/>
              <a:ext cx="914400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siz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turn the number of elements in the tre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9F25-5FDE-4801-819B-9055C8F361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B9DE9F0-1506-4B66-8744-B2EC39BBA8C0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21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Tree Structure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3880" y="833400"/>
          <a:ext cx="6096240" cy="511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833400"/>
                    <a:ext cx="609624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D378-4A5F-464E-A644-7635E7E10B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4616784-2010-49BD-82A2-B998C4D3F6C8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385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Using Binary Search Trees </a:t>
            </a:r>
            <a:r>
              <a:rPr b="1" i="1" lang="en-US" sz="2400" spc="-1" strike="noStrike">
                <a:solidFill>
                  <a:srgbClr val="5f9997"/>
                </a:solidFill>
                <a:latin typeface="Arial"/>
              </a:rPr>
              <a:t>Application: Removing Duplicates</a:t>
            </a:r>
            <a:endParaRPr b="1" lang="en-US" sz="24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-76320" y="1738440"/>
          <a:ext cx="9282240" cy="28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1738440"/>
                    <a:ext cx="928224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3A92-EC14-4D4F-868B-F77C325855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9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035E34A-8B33-4476-BD1D-F2656C8865AE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398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4443"/>
                </a:solidFill>
                <a:latin typeface="Arial"/>
              </a:rPr>
              <a:t>Update Operations: </a:t>
            </a:r>
            <a:r>
              <a:rPr b="1" i="1" lang="en-US" sz="2400" spc="-1" strike="noStrike">
                <a:solidFill>
                  <a:srgbClr val="264443"/>
                </a:solidFill>
                <a:latin typeface="Arial"/>
              </a:rPr>
              <a:t>1</a:t>
            </a:r>
            <a:r>
              <a:rPr b="1" i="1" lang="en-US" sz="2400" spc="-1" strike="noStrike" baseline="30000">
                <a:solidFill>
                  <a:srgbClr val="264443"/>
                </a:solidFill>
                <a:latin typeface="Arial"/>
              </a:rPr>
              <a:t>st</a:t>
            </a:r>
            <a:r>
              <a:rPr b="1" i="1" lang="en-US" sz="2400" spc="-1" strike="noStrike">
                <a:solidFill>
                  <a:srgbClr val="264443"/>
                </a:solidFill>
                <a:latin typeface="Arial"/>
              </a:rPr>
              <a:t> of 3 steps</a:t>
            </a:r>
            <a:endParaRPr b="1" lang="en-US" sz="24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begins at the root node and compares item 3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root value 25. Since 32 &gt; 25, we traverse the r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ee and look at node 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828800" y="1689120"/>
          <a:ext cx="6324480" cy="455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689120"/>
                    <a:ext cx="63244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B0B1-2071-44EA-B5CD-395D357859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3C73FF6-0A93-4987-B375-DA5BD51CAE64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412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4443"/>
                </a:solidFill>
                <a:latin typeface="Arial"/>
              </a:rPr>
              <a:t>Update Operations: </a:t>
            </a:r>
            <a:r>
              <a:rPr b="1" i="1" lang="en-US" sz="2400" spc="-1" strike="noStrike">
                <a:solidFill>
                  <a:srgbClr val="264443"/>
                </a:solidFill>
                <a:latin typeface="Arial"/>
              </a:rPr>
              <a:t>2</a:t>
            </a:r>
            <a:r>
              <a:rPr b="1" i="1" lang="en-US" sz="2400" spc="-1" strike="noStrike" baseline="30000">
                <a:solidFill>
                  <a:srgbClr val="264443"/>
                </a:solidFill>
                <a:latin typeface="Arial"/>
              </a:rPr>
              <a:t>nd</a:t>
            </a:r>
            <a:r>
              <a:rPr b="1" i="1" lang="en-US" sz="2400" spc="-1" strike="noStrike">
                <a:solidFill>
                  <a:srgbClr val="264443"/>
                </a:solidFill>
                <a:latin typeface="Arial"/>
              </a:rPr>
              <a:t> of 3 steps</a:t>
            </a:r>
            <a:endParaRPr b="1" lang="en-US" sz="24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762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ing 35 to be the root of its own subtree, we comp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32 with 35 and traverse the left subtree of 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905120" y="1752480"/>
          <a:ext cx="7010280" cy="448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752480"/>
                    <a:ext cx="701028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A800-4842-4F39-8BD6-4EA56415C1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C9FC7AC-44B0-4B44-85DA-77B24204A164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426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4443"/>
                </a:solidFill>
                <a:latin typeface="Arial"/>
              </a:rPr>
              <a:t>Update Operations: </a:t>
            </a:r>
            <a:r>
              <a:rPr b="1" i="1" lang="en-US" sz="2400" spc="-1" strike="noStrike">
                <a:solidFill>
                  <a:srgbClr val="264443"/>
                </a:solidFill>
                <a:latin typeface="Arial"/>
              </a:rPr>
              <a:t>3</a:t>
            </a:r>
            <a:r>
              <a:rPr b="1" i="1" lang="en-US" sz="2400" spc="-1" strike="noStrike" baseline="30000">
                <a:solidFill>
                  <a:srgbClr val="264443"/>
                </a:solidFill>
                <a:latin typeface="Arial"/>
              </a:rPr>
              <a:t>rd</a:t>
            </a:r>
            <a:r>
              <a:rPr b="1" i="1" lang="en-US" sz="2400" spc="-1" strike="noStrike">
                <a:solidFill>
                  <a:srgbClr val="264443"/>
                </a:solidFill>
                <a:latin typeface="Arial"/>
              </a:rPr>
              <a:t> of 3 steps</a:t>
            </a:r>
            <a:endParaRPr b="1" lang="en-US" sz="24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762120"/>
            <a:ext cx="91440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leaf node with data value 32. Insert the new n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left child of node 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Node = getSTNode(item,NULL,NULL,par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&gt;left = newN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2895480" y="1828800"/>
          <a:ext cx="6705720" cy="44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1828800"/>
                    <a:ext cx="670572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48E5-FA97-4E7F-9FD6-89C336C09A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6E36C11-F130-4D69-8107-DD8802362579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440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Removing an Item From a Binary Tree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30120" y="914400"/>
          <a:ext cx="8559720" cy="435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914400"/>
                    <a:ext cx="855972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1E01-7A7F-46CE-80C9-94DE8096CD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295F6D8-99C1-4F29-B9E9-40842C514741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454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Removing an Item From a Binary Tree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-76320" y="685800"/>
          <a:ext cx="48294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685800"/>
                    <a:ext cx="48294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4038480" y="762120"/>
          <a:ext cx="5077080" cy="548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38480" y="762120"/>
                    <a:ext cx="507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A68A-FDD4-4054-96CC-EC1D7EB505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80F3F50-7EB0-4662-9FA4-DACB107F65AB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469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Removing an Item From a Binary Tree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09480" y="1219320"/>
          <a:ext cx="7586640" cy="41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19320"/>
                    <a:ext cx="75866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1F81-CAB4-40CA-B6AC-6A21071A62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00E7AC2-6C0C-43B4-9432-0B3ACBA27066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484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Removing an Item From a Binary Tree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914400" y="1523880"/>
          <a:ext cx="6946920" cy="297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23880"/>
                    <a:ext cx="694692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B35A-C4DE-4994-9C4A-5A286E61D9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559F6EE-FFBB-4078-8B1B-A73AD114582C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500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Removing an Item From a Binary Tree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304920" y="1523880"/>
          <a:ext cx="8626320" cy="306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862632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19F8-48EA-481F-96B5-43C23521B4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7A71033-201A-4E54-93C9-F775BEFE302B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517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Removing an Item From a Binary Tree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960480" y="1460520"/>
          <a:ext cx="6900840" cy="304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0480" y="1460520"/>
                    <a:ext cx="690084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6878-2E55-4D59-B166-4126F236C8E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E0C8065-AC3D-41B9-9478-14280502A1AD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34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Tree Structure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219320" y="685800"/>
          <a:ext cx="7588080" cy="550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685800"/>
                    <a:ext cx="7588080" cy="55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AE24-2C7E-49E3-90BC-CDB1428AC9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535D899-3B1D-458C-8DFF-E9678F4DA7B5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535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Removing an Item From a Binary Tree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33520" y="1447920"/>
          <a:ext cx="7831080" cy="29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447920"/>
                    <a:ext cx="783108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B35F-F9AC-4AEE-BF53-110CEB73F85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551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7A5FA4C-D0B2-4E85-9781-226CDA518582}" type="slidenum"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554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mmary Slide 1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62120" y="3124080"/>
            <a:ext cx="121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838080"/>
            <a:ext cx="914400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erarchical structures that place elements 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des along branches that originate from a ro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des in a tree are subdivided into levels in whic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opmost level holds the root nod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node in a tree may have multiple successors a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xt level. Hence a tree is a non-linear struc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e terminology with which you should 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i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 | child | descendents | leaf node | interi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de   | sub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EB44-0533-4DA4-A3CB-9CCBE867DF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564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C79C440-C38F-4765-9CB5-DAB15F6F5AED}" type="slidenum"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567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mmary Slide 2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62120" y="3124080"/>
            <a:ext cx="121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838080"/>
            <a:ext cx="9144000" cy="52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nary 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effective as a storage structure if it has hig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: data are located on relatively short paths from 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lete binary tree has the highest possib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n-node complete binary tree has dept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(log2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other extreme, a degenerate binary tree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valent to a linked list and exhibits O(n) acces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0A8F-0DAF-48F1-A652-0F74485169F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577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8BFC65C-6EFB-439B-8E07-7E55E6DC05B1}" type="slidenum"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580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mmary Slide 3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62120" y="3124080"/>
            <a:ext cx="121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838080"/>
            <a:ext cx="914400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versing Through a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six simple recursive algorithms for tre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ver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mmonly used on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order (LN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order (LR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order (NL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technique is to move left to right fro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 to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algorithm is iterative, and its implementa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olves using a que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7E3B-397B-40D6-86A4-06E4E6412E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590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0A30736-BA5D-412E-A7AB-D1209CF497A3}" type="slidenum"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593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mmary Slide 4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62120" y="3124080"/>
            <a:ext cx="121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838080"/>
            <a:ext cx="914400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binary search tree stores data by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lue instead of 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n example of an associative cont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mpl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= retur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 go lef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gt; go right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il finding a NULL subtree make it easy to build 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nary search tree that does not allow duplica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C29C-92B0-43D1-A132-7DAF390BAE4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603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BE5D9DA-D091-463E-B97A-B8A9D6AA6933}" type="slidenum"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606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mmary Slide 5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2120" y="3124080"/>
            <a:ext cx="121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838080"/>
            <a:ext cx="914400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sertion algorithm can be used to define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h to locate a data value in the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moval of an item from a binary search tree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difficult and involves finding a replaceme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de among the remaining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866F-051A-4C9C-9B16-DB8A54DD062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598E53A-CE69-420B-98C3-DDE8229D5CAF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47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Tree Structure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447920" y="689040"/>
          <a:ext cx="5715000" cy="548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689040"/>
                    <a:ext cx="5715000" cy="54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DC90-24F9-478F-8A7C-2965961AD2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76CEFB2-27C4-44A8-9B0B-3B484B7C34B8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60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Tree Node Level and Path Length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-46080" y="1312920"/>
          <a:ext cx="9266400" cy="417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6080" y="1312920"/>
                    <a:ext cx="926640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7B97-1F5D-4C73-9016-70962D0074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A7F9019-1C36-4F79-9C3A-EFE0D5C743B9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73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Tree Node Level and Path Length – Depth Discussion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09480" y="963720"/>
          <a:ext cx="7848720" cy="452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963720"/>
                    <a:ext cx="784872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5300-796C-4C93-BF8E-E4946D0189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960D169-7135-4082-8588-41E0143BADFF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86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Tree Node Level and Path Length – Depth Discussion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838080" y="928800"/>
          <a:ext cx="7543800" cy="51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928800"/>
                    <a:ext cx="7543800" cy="51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F43D-3F1D-4160-93A9-78E9578188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0638330-7D67-46C3-A283-5A3AF9A4126F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99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Tree Node Level and Path Length – Depth Discussion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14400" y="709560"/>
          <a:ext cx="7238880" cy="53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709560"/>
                    <a:ext cx="7238880" cy="53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4521-3F41-48F0-88C6-A855CF418A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6EDEA6F-55A1-4F9E-83BA-9515D0FA90DB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212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Tree Node Level and Path Length – Depth Discussion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3520" y="882720"/>
          <a:ext cx="7772400" cy="50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882720"/>
                    <a:ext cx="777240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9372-A25D-4F0E-B04B-6B7BB61CA8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18:26:05Z</dcterms:created>
  <dc:creator>Navin</dc:creator>
  <dc:description/>
  <dc:language>en-US</dc:language>
  <cp:lastModifiedBy>William Ford</cp:lastModifiedBy>
  <cp:lastPrinted>1999-06-29T23:04:46Z</cp:lastPrinted>
  <dcterms:modified xsi:type="dcterms:W3CDTF">2001-08-26T23:25:39Z</dcterms:modified>
  <cp:revision>500</cp:revision>
  <dc:subject/>
  <dc:title>No Slide Title</dc:title>
</cp:coreProperties>
</file>