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C306D-0C85-494D-A0C6-076FF7A3A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00CF-5023-4DB3-931B-D04DC8666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4159-9C82-46E0-885F-68337175D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D463-D720-430A-A11C-227E69882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F9E97-C82F-4A96-BEA0-1BA3EFA1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F3DF0-560E-4D0D-91FA-6F958C3F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5EBB-257A-4D5F-A314-6EBAD548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C8876-B78F-499A-9D9A-D7CB2DFF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207C9-ADC1-4A2F-98AE-C52196A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10035-FB5C-43E1-9C66-1DF2F91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05984-78C2-4F50-A393-8FFD85E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EEA2-4437-4A07-A8FB-ED173491A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DDD5D-4998-49E7-B251-D050CEE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60EC-0DD6-45D3-A478-9DD7351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38847-6815-4E6C-93FC-406442CB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08001-AC0C-4425-9B02-DA162576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162E5-336D-452C-9C7B-DEB21A54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3158-F886-4F62-BB47-6D518CA23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63DF-2ACD-41C4-8D33-5462645E5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BD5C-810E-4BEA-BFDB-BEF1FE584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C5E2-258E-4F82-9B4F-1B8C6F623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1C32-BB6E-4630-A40F-59FB4D69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CAA1-1694-495D-9A92-F7D8C6A0E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56DD-419D-4B4B-A471-245BD9906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Master%20Index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00400" y="0"/>
            <a:ext cx="5943600" cy="762120"/>
          </a:xfrm>
          <a:prstGeom prst="rect">
            <a:avLst/>
          </a:prstGeom>
          <a:solidFill>
            <a:srgbClr val="e4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8A66-801F-4252-B25D-7B8F5FC8D3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28600" y="6172200"/>
            <a:ext cx="7391520" cy="166680"/>
            <a:chOff x="228600" y="6172200"/>
            <a:chExt cx="7391520" cy="166680"/>
          </a:xfrm>
        </p:grpSpPr>
        <p:sp>
          <p:nvSpPr>
            <p:cNvPr id="9" name=""/>
            <p:cNvSpPr/>
            <p:nvPr/>
          </p:nvSpPr>
          <p:spPr>
            <a:xfrm>
              <a:off x="609480" y="6172200"/>
              <a:ext cx="7010640" cy="16560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28600" y="6172200"/>
              <a:ext cx="393840" cy="16668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>
            <a:hlinkClick r:id="rId2"/>
          </p:cNvPr>
          <p:cNvSpPr/>
          <p:nvPr/>
        </p:nvSpPr>
        <p:spPr>
          <a:xfrm>
            <a:off x="3352680" y="6400800"/>
            <a:ext cx="106704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 flipV="1">
            <a:off x="8305560" y="6552720"/>
            <a:ext cx="15228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65530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3" action="ppaction://hlinksldjump"/>
          </p:cNvPr>
          <p:cNvSpPr/>
          <p:nvPr/>
        </p:nvSpPr>
        <p:spPr>
          <a:xfrm>
            <a:off x="4724280" y="6400800"/>
            <a:ext cx="91440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057400" y="0"/>
            <a:ext cx="457200" cy="762120"/>
          </a:xfrm>
          <a:prstGeom prst="rect">
            <a:avLst/>
          </a:prstGeom>
          <a:solidFill>
            <a:srgbClr val="6b9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066680" y="0"/>
            <a:ext cx="2362320" cy="762120"/>
            <a:chOff x="1066680" y="0"/>
            <a:chExt cx="2362320" cy="762120"/>
          </a:xfrm>
        </p:grpSpPr>
        <p:sp>
          <p:nvSpPr>
            <p:cNvPr id="17" name=""/>
            <p:cNvSpPr/>
            <p:nvPr/>
          </p:nvSpPr>
          <p:spPr>
            <a:xfrm>
              <a:off x="2514600" y="0"/>
              <a:ext cx="38088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895480" y="0"/>
              <a:ext cx="30492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00200" y="0"/>
              <a:ext cx="457200" cy="762120"/>
            </a:xfrm>
            <a:prstGeom prst="rect">
              <a:avLst/>
            </a:prstGeom>
            <a:solidFill>
              <a:srgbClr val="6b9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057400" y="0"/>
              <a:ext cx="45720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066680" y="0"/>
              <a:ext cx="533520" cy="762120"/>
            </a:xfrm>
            <a:prstGeom prst="rect">
              <a:avLst/>
            </a:prstGeom>
            <a:solidFill>
              <a:srgbClr val="7a9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0"/>
              <a:ext cx="22860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1a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3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4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97E-2B76-4E79-85AE-047D59E1D95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4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B2E915-4E58-4CF1-9699-0B196384B369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0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8580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3" action="ppaction://hlinksldjump"/>
              </a:rPr>
              <a:t>Tree Structur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4" action="ppaction://hlinksldjump"/>
              </a:rPr>
              <a:t>Tree Node Level and Path 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5" action="ppaction://hlinksldjump"/>
              </a:rPr>
              <a:t>Binary Tre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6" action="ppaction://hlinksldjump"/>
              </a:rPr>
              <a:t>Selected Samples / Binary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7" action="ppaction://hlinksldjump"/>
              </a:rPr>
              <a:t>Binary Tre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8" action="ppaction://hlinksldjump"/>
              </a:rPr>
              <a:t>Binary Search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9" action="ppaction://hlinksldjump"/>
              </a:rPr>
              <a:t>Locating Data in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0" action="ppaction://hlinksldjump"/>
              </a:rPr>
              <a:t>Removing a Binary Tre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1" action="ppaction://hlinksldjump"/>
              </a:rPr>
              <a:t>stree</a:t>
            </a: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2" action="ppaction://hlinksldjump"/>
              </a:rPr>
              <a:t> ADT (4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3" action="ppaction://hlinksldjump"/>
              </a:rPr>
              <a:t>Using Binary Search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Removing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4" action="ppaction://hlinksldjump"/>
              </a:rPr>
              <a:t>Update Oper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5" action="ppaction://hlinksldjump"/>
              </a:rPr>
              <a:t>Removing an Item From a Binary T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7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9997"/>
                </a:solidFill>
                <a:latin typeface="Arial"/>
              </a:rPr>
              <a:t>Chapter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Binary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762120"/>
            <a:ext cx="4191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6" action="ppaction://hlinksldjump"/>
              </a:rPr>
              <a:t>Summary Slid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5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133F-47DD-4FAF-B491-10B328E1EA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Binary Tree Definit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nary tree T is a finite set of nodes with one of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 T is a tree if the set of nodes is empty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(An empty tree is a tre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 The set consists of a root, R, and exactly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distinct binary trees, the left subtre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right subtre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nodes in T consist of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R and all the nodes i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F7BD-4698-49B0-B41E-AB8FB9DBF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51BAFE1-5C91-4455-954B-87B1A7FE31B0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Selected Samples of Binary Tre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280" y="1066680"/>
          <a:ext cx="8839440" cy="465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88394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48D6-6237-48B4-935F-C76F98FE6B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B4E23F4-8235-4798-9803-9025D0B8A5BF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4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Binary Tree Nod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-76320" y="-42840"/>
          <a:ext cx="3346560" cy="34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-42840"/>
                    <a:ext cx="3346560" cy="34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76320" y="2738520"/>
          <a:ext cx="9144000" cy="35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2738520"/>
                    <a:ext cx="91440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ACE9-D1BE-4E00-ABFB-B769A75FAC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BA406EC-2A92-4CA5-97AD-1B644F23971F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Binary Search Tre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304920"/>
          <a:ext cx="556272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920"/>
                    <a:ext cx="556272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85800" y="4191120"/>
          <a:ext cx="4191120" cy="18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91120"/>
                    <a:ext cx="4191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419720" y="838080"/>
          <a:ext cx="4287600" cy="434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838080"/>
                    <a:ext cx="4287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8CF0-63AC-4EB0-8EBD-2AA887F8A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0630496-8312-4768-8467-F6C94DC9BCD8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72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0" y="2895480"/>
          <a:ext cx="9248760" cy="34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95480"/>
                    <a:ext cx="92487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0" y="228600"/>
            <a:ext cx="91440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Cur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Ac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264443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264443"/>
                </a:solidFill>
                <a:latin typeface="Arial"/>
              </a:rPr>
              <a:t>LOCATING DATA IN A TRE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oot = 5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7 &lt; 50, move to the lef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= 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7 &gt; 30, move to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= 3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7 &gt; 35, move to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= 3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are item = 37 and 37. Item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1F14-6AA2-42C8-A470-83A20457A5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8F792AB-48E7-4DE1-BDA3-D8A984FD4A81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8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Removing a Binary Search Tree Nod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0"/>
          <a:ext cx="4495680" cy="31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4956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0" y="2971800"/>
          <a:ext cx="9144000" cy="33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971800"/>
                    <a:ext cx="91440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5BEB-A48B-46D6-804D-15C983FB63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647241E-D55C-4FDF-A3A7-CEF606104413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0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0" y="0"/>
            <a:ext cx="9144000" cy="2895480"/>
            <a:chOff x="0" y="0"/>
            <a:chExt cx="9144000" cy="2895480"/>
          </a:xfrm>
        </p:grpSpPr>
        <p:sp>
          <p:nvSpPr>
            <p:cNvPr id="307" name=""/>
            <p:cNvSpPr/>
            <p:nvPr/>
          </p:nvSpPr>
          <p:spPr>
            <a:xfrm>
              <a:off x="0" y="533520"/>
              <a:ext cx="9144000" cy="236196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struct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60948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t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an empty search t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1600200"/>
              <a:ext cx="9144000" cy="12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t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T *first, T *last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a search tree with the elements from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inter range [first, last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0" y="2895480"/>
            <a:ext cx="9144000" cy="3276720"/>
            <a:chOff x="0" y="2895480"/>
            <a:chExt cx="9144000" cy="3276720"/>
          </a:xfrm>
        </p:grpSpPr>
        <p:sp>
          <p:nvSpPr>
            <p:cNvPr id="316" name=""/>
            <p:cNvSpPr/>
            <p:nvPr/>
          </p:nvSpPr>
          <p:spPr>
            <a:xfrm>
              <a:off x="0" y="3429000"/>
              <a:ext cx="9144000" cy="2743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0" y="2895480"/>
              <a:ext cx="9143640" cy="592200"/>
              <a:chOff x="0" y="2895480"/>
              <a:chExt cx="9143640" cy="59220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289548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97000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393200" y="2971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62360" y="297000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0" y="3505320"/>
              <a:ext cx="9144000" cy="15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displayTre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nt maxCharacters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play the search tree. The maximum number of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acters needed to output a node value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xCharact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510552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ol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rue if the tree is empty and false otherwi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E696-CA15-4822-B7C5-DB5135D79A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A41CD7-995D-4478-BC6B-4714B0D7AC55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335" name=""/>
            <p:cNvSpPr/>
            <p:nvPr/>
          </p:nvSpPr>
          <p:spPr>
            <a:xfrm>
              <a:off x="0" y="533520"/>
              <a:ext cx="9144000" cy="5638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0" y="609480"/>
              <a:ext cx="9144000" cy="23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ras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arch the tree and remove item, if it is present;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herwise, take no action. Return the number of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ements remov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If item is located in the tree, the siz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 the tree decreases by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3048120"/>
              <a:ext cx="9144000" cy="24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ras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terator pos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ase the item pointed to the iterator pos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tree is not empty and pos point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 an item in the tree. If the iterator is invalid, th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nction throws the referenceError exception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The tree size decreases by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B053-EE08-4D35-9A36-CF287FF03B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98F179F-43FB-4E60-AF7E-F2464A940AEF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4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354" name=""/>
            <p:cNvSpPr/>
            <p:nvPr/>
          </p:nvSpPr>
          <p:spPr>
            <a:xfrm>
              <a:off x="0" y="533520"/>
              <a:ext cx="9144000" cy="5638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0" y="609480"/>
              <a:ext cx="9144000" cy="24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eras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iterator first, iterator last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move all items in the iterator range [first, last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 The tree is not empty. If empty,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unction throws the underflowError exception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The size of the tree decreases by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mber of items in the rang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3200400"/>
              <a:ext cx="9144000" cy="21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erator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fin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arch the tree by comparing item with the dat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lues in a path of nodes from the root of the tree. If 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ch occurs, return an iterator pointing to th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ching value in the tree. If item is not in the tree,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he iterator value end(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A0FC-E92E-4B07-879C-2CA37CB049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7208D90-B9C9-4C14-88E2-03400FC94106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6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373" name=""/>
            <p:cNvSpPr/>
            <p:nvPr/>
          </p:nvSpPr>
          <p:spPr>
            <a:xfrm>
              <a:off x="0" y="533520"/>
              <a:ext cx="9144000" cy="5638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0" y="0"/>
              <a:ext cx="9143640" cy="592200"/>
              <a:chOff x="0" y="0"/>
              <a:chExt cx="9143640" cy="592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0"/>
                <a:ext cx="9143640" cy="5922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745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r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93200" y="763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360" y="745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“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_stree.h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609480"/>
              <a:ext cx="9144000" cy="32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iar&lt;iterator, bool&gt;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inser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item is not in the tree, insert it and return an iterator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ol pair where the iterator is the location of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element and the Boolean value is true. If item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ready in the tree, return the pair where the iterator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tes the existing item and the Boolean value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s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The size of the tree is increased by 1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f item is not present in the t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396252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iz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he number of elements in the t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09E1-46A3-4FD9-B8E0-7DA435ADCB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24810DC-314E-494E-8D9F-C2B2AF8BFC62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21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Tree Structur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833400"/>
          <a:ext cx="6096240" cy="511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833400"/>
                    <a:ext cx="609624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67F8-BCDC-4D74-A798-BD58FB498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0FD8A33-E0F4-4C93-A23D-62FAE07940C4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8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Using Binary Search Trees </a:t>
            </a:r>
            <a:r>
              <a:rPr b="1" i="1" lang="en-US" sz="2400" spc="-1" strike="noStrike">
                <a:solidFill>
                  <a:srgbClr val="5f9997"/>
                </a:solidFill>
                <a:latin typeface="Arial"/>
              </a:rPr>
              <a:t>Application: Removing Duplicate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-76320" y="1738440"/>
          <a:ext cx="9282240" cy="28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1738440"/>
                    <a:ext cx="928224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5C07-DC78-4DD7-99D5-976535D62F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391936C-5DD9-4440-BD7C-85D531AA0BC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9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Update Operations: 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1</a:t>
            </a:r>
            <a:r>
              <a:rPr b="1" i="1" lang="en-US" sz="2400" spc="-1" strike="noStrike" baseline="30000">
                <a:solidFill>
                  <a:srgbClr val="264443"/>
                </a:solidFill>
                <a:latin typeface="Arial"/>
              </a:rPr>
              <a:t>st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 of 3 step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begins at the root node and compares item 3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root value 25. Since 32 &gt; 25, we traverse the r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ee and look at node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828800" y="1689120"/>
          <a:ext cx="6324480" cy="455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689120"/>
                    <a:ext cx="63244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177D-2CB6-4E1C-8236-89C2AD3D20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D0CF8D8-3F43-4670-A965-15D9B35C266E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12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Update Operations: 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2</a:t>
            </a:r>
            <a:r>
              <a:rPr b="1" i="1" lang="en-US" sz="2400" spc="-1" strike="noStrike" baseline="30000">
                <a:solidFill>
                  <a:srgbClr val="264443"/>
                </a:solidFill>
                <a:latin typeface="Arial"/>
              </a:rPr>
              <a:t>nd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 of 3 step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762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35 to be the root of its own subtree, we comp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32 with 35 and traverse the left subtree of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905120" y="1752480"/>
          <a:ext cx="7010280" cy="448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752480"/>
                    <a:ext cx="70102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1F2F-BDE8-41FE-A5DA-0DF2D51036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6EE6C11-BC9F-4AF3-9B6A-67F62C5ACC24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2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Update Operations: 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3</a:t>
            </a:r>
            <a:r>
              <a:rPr b="1" i="1" lang="en-US" sz="2400" spc="-1" strike="noStrike" baseline="30000">
                <a:solidFill>
                  <a:srgbClr val="264443"/>
                </a:solidFill>
                <a:latin typeface="Arial"/>
              </a:rPr>
              <a:t>rd</a:t>
            </a:r>
            <a:r>
              <a:rPr b="1" i="1" lang="en-US" sz="2400" spc="-1" strike="noStrike">
                <a:solidFill>
                  <a:srgbClr val="264443"/>
                </a:solidFill>
                <a:latin typeface="Arial"/>
              </a:rPr>
              <a:t> of 3 steps</a:t>
            </a:r>
            <a:endParaRPr b="1" lang="en-US" sz="24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762120"/>
            <a:ext cx="9144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eaf node with data value 32. Insert the new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left child of node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Node = getSTNode(item,NULL,NULL,par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-&gt;left = new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895480" y="1828800"/>
          <a:ext cx="670572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828800"/>
                    <a:ext cx="670572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06E4-0B87-47ED-BCC7-2886802962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8AFE2D8-854E-4769-A195-3B9EFB6B06EC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4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30120" y="914400"/>
          <a:ext cx="8559720" cy="43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914400"/>
                    <a:ext cx="85597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B17E-4265-4F06-ADB5-B71C3316B9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A8096D6-BFAE-4585-A6D9-96809086BD11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-76320" y="685800"/>
          <a:ext cx="48294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685800"/>
                    <a:ext cx="4829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4038480" y="762120"/>
          <a:ext cx="5077080" cy="548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38480" y="762120"/>
                    <a:ext cx="507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70A9-FDBF-41F5-812D-4265CC7510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6443512-3941-42CA-A9D1-D6CBBA6685B1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69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09480" y="1219320"/>
          <a:ext cx="7586640" cy="41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75866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F37C-3B5F-45DF-9C5A-D86388CD7D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9356DEE-AFFA-4BC8-8599-E846D0A4CECC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48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914400" y="1523880"/>
          <a:ext cx="6946920" cy="29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23880"/>
                    <a:ext cx="694692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D6F4-55C9-4AE1-983D-0E529DDD4F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490FA35-1E88-4542-A687-70FBFD2559FD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50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304920" y="1523880"/>
          <a:ext cx="8626320" cy="30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862632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87C8-D5FF-4748-9339-8DFE94B4AB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557A90F-609E-480C-9B6E-F61FA287D900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51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960480" y="1460520"/>
          <a:ext cx="6900840" cy="304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0480" y="1460520"/>
                    <a:ext cx="69008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C29F-B0BE-488D-BAB9-8E8129D3B9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077A02A-57C6-4EEC-9526-9676D017C7BD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Tree Structur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19320" y="685800"/>
          <a:ext cx="7588080" cy="55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685800"/>
                    <a:ext cx="758808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6E51-B7BB-473F-8211-706609246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97EBFA0-953A-4714-B3EA-DBF631B60756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53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Removing an Item From a Binary Tree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447920"/>
          <a:ext cx="7831080" cy="29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78310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91CF-AFD4-4F56-A1F4-D7B61DF4B4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51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753F50C-A7EA-4863-BAB0-ADE469F3DE08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54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1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38080"/>
            <a:ext cx="9144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ical structures that place elements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s along branches that originate from a ro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s in a tree are subdivided into levels in wh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pmost level holds the root n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node in a tree may have multiple successors 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xt level. Hence a tree is a non-linear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 terminology with which you should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 | child | descendents | leaf node | interi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   |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EC08-67A2-4465-A65E-C22C6B468B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64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96883A6-1EC1-4862-9553-8A0872C1CCFC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67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2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838080"/>
            <a:ext cx="914400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ffective as a storage structure if it has hig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: data are located on relatively short paths from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binary tree has the highest possib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n-node complete binary tree has dep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(log2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other extreme, a degenerate binary tree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to a linked list and exhibits O(n) acc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EDE0-DA6E-4B97-83E0-3DF2F3BA70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77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0D242F-C3D5-47DB-85DE-0B6DE2BCC68E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80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3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838080"/>
            <a:ext cx="914400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versing Through a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ix simple recursive algorithms for t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ver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ly used o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order (LN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order (LR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order (NL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technique is to move left to right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to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lgorithm is iterative, and its implement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s using a que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DAA0-8447-41BC-BC43-C4A626412F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590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68C848D-3F89-4255-A27A-9A14EF63E4DE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593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4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838080"/>
            <a:ext cx="9144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inary search tree stores data by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lue instead of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 example of an associative cont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mpl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= retur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 go lef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 go right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finding a NULL subtree make it easy to build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search tree that does not allow duplic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E6D0-9EE3-45DC-BD32-6841EA9D47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603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CB54A5C-4947-4441-A2E4-0012541877A0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606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5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838080"/>
            <a:ext cx="914400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sertion algorithm can be used to define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 to locate a data value in the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moval of an item from a binary search tree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difficult and involves finding a replacem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de among the remaining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0DA0-C66E-4B77-8E3C-A181992681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DCD43A4-CA61-4C90-B0F3-43FBD5BBB337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47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Tree Structur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47920" y="689040"/>
          <a:ext cx="5715000" cy="548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89040"/>
                    <a:ext cx="57150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6E7C-4335-489A-B9B1-3F3F1CCDA4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B13D80C-524A-4DD6-9D8B-51C8926AA8B9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60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-46080" y="1312920"/>
          <a:ext cx="9266400" cy="41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6080" y="1312920"/>
                    <a:ext cx="92664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8E82-B8D4-4C3B-857A-9A78B0F70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B64750C-D7C2-4150-9DCC-580D52674AD6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73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963720"/>
          <a:ext cx="7848720" cy="45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63720"/>
                    <a:ext cx="78487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FC85-877A-4CDF-BF7D-69B3B1468E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AEBD3EF-17B6-4C8B-9058-3508AAE214E4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8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38080" y="928800"/>
          <a:ext cx="7543800" cy="51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28800"/>
                    <a:ext cx="7543800" cy="51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1210-D10B-447A-91E9-D2C23E8652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DBAD71-4DB1-4BD8-9094-832B641C1B5B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709560"/>
          <a:ext cx="7238880" cy="538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09560"/>
                    <a:ext cx="723888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913F-DA18-4E0F-980E-A869DCA310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F125645-8D8E-4C75-B59E-22DECAF4F4AE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12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Tree Node Level and Path Length – Depth Discussion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882720"/>
          <a:ext cx="777240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882720"/>
                    <a:ext cx="77724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2033-3764-4D44-9CA3-B4ACBF61B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8:26:05Z</dcterms:created>
  <dc:creator>Navin</dc:creator>
  <dc:description/>
  <dc:language>en-US</dc:language>
  <cp:lastModifiedBy>William Ford</cp:lastModifiedBy>
  <cp:lastPrinted>1999-06-29T23:04:46Z</cp:lastPrinted>
  <dcterms:modified xsi:type="dcterms:W3CDTF">2001-08-26T23:25:39Z</dcterms:modified>
  <cp:revision>500</cp:revision>
  <dc:subject/>
  <dc:title>No Slide Title</dc:title>
</cp:coreProperties>
</file>