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5C9EE-0D84-459D-9626-C7539D2D2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B65BF-23DD-41D3-A925-564544D42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97E16-8E20-4630-B799-E94A76C9F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DB3A3-A376-418B-95C2-7EB19A81B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2B01A-6335-420C-BFC9-6746F89E5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906F7-45AC-4190-A5CC-D4519DF26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CD970-6820-48F6-B3AF-41F2ABDB2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717D9-776F-41EA-AE06-7066BEA41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60CBA-0215-4AE5-87C9-9091F50B7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E37A9-E3AC-4A09-9503-7535174E9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30C52-AD46-4265-B884-4FD3F30C3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B1A36-1DF6-4415-8ECC-E4EB0E449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0FF62-C591-4769-B647-8193F0321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0B047-A7D4-4772-8DC8-B9ABF5535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5ACF2-07A6-4DF3-8E00-73D38CC0C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452EA-906C-4B0D-B219-05A6392E3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EC3AF-EF5B-4784-A74D-FE05FA590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C59DF-A4AF-4D83-8ECA-AA9329CC9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B14F8-620C-4F96-B96E-86DEAAF20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A7BE2-4353-489D-A8BF-3BE66958A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FDAE1-EDB5-4283-99FD-C7662D464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514CC-C232-4F33-BADF-FD2C2E860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705F-B6A4-49BB-9A9B-0187CC14C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282A2-4B41-45AB-9EA1-34E8B5C73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D5AB-6DCB-4371-AF50-CD2FDD8746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2C46-5F0E-42B7-AC74-90CFE489C2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Georgia"/>
              </a:rPr>
              <a:t>ASP.NET</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 Rahman Bin Ahma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30"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 .NET Contro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 .NET contains a large set of HTML controls. Almost all HTML elements on a page can be defined as ASP .NET control objects that can be controlled by scrip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 .NET also contains a new set of object oriented input controls, like programmable list boxes and validation contro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 data grid control supports sorting, data paging, and everything you expect from a dataset contro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ent Aware Contro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SP .NET objects on a Web page can expose events that can be processed by ASP .NET co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 Click and Change events handled by code makes coding much simpler and much better organize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 .NET Componen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 .NET components are heavily based on XML. Like the new AD Rotator, that uses XML to store advertisement information and configur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32"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Authentic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 .NET supports forms-based user authentication, including cookie management and automatic redirecting of unauthorized logi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 still do your custom login page and custom user checking).</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Accounts and Ro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 .NET allows for user accounts and roles, to give each user (with a given role) access to different server code and executab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calabilit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ch has been done with ASP .NET to provide greater scalabilit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 to server communication has been greatly enhanced, making it possible to scale an application over several servers. One example of this is the ability to run XML parsers, XSL transformations and even resource hungry session objects on other serve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iled Co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request for an ASP .NET page on the server will compile the ASP .NET code and keep a cached copy in memory. The result of this is greatly increased perform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34"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Configur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ation of ASP .NET is done with plain text fi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ation files can be uploaded or changed while the application is running. No need to restart the server. No more metabase or registry puzz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Deploymen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ore server restart to deploy or replace compiled code. ASP .NET simply redirects all new requests to the new co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atibilit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 .NET is not fully compatible with earlier versions of ASP, so most of the old ASP code will need some changes to run under ASP .NE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overcome this problem, ASP .NET uses a new file extension ".aspx". This will make ASP .NET applications able to run side by side with standard ASP applications on the same serv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36" name="PlaceHolder 2"/>
          <p:cNvSpPr>
            <a:spLocks noGrp="1"/>
          </p:cNvSpPr>
          <p:nvPr>
            <p:ph/>
          </p:nvPr>
        </p:nvSpPr>
        <p:spPr>
          <a:xfrm>
            <a:off x="456840" y="1600200"/>
            <a:ext cx="83818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ic Pag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lo W3Schools in ASP.NE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mplest way to convert an HTML page into an ASP.NET page is to copy the HTML file to a new file with an </a:t>
            </a:r>
            <a:r>
              <a:rPr b="1" lang="en-US" sz="2400" spc="-1" strike="noStrike">
                <a:solidFill>
                  <a:srgbClr val="ffffff"/>
                </a:solidFill>
                <a:latin typeface="Arial"/>
              </a:rPr>
              <a:t>.aspx</a:t>
            </a:r>
            <a:r>
              <a:rPr b="0" lang="en-US" sz="2400" spc="-1" strike="noStrike">
                <a:solidFill>
                  <a:srgbClr val="ffffff"/>
                </a:solidFill>
                <a:latin typeface="Arial"/>
              </a:rPr>
              <a:t> extens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ode displays our example as an ASP.NET pag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 want to try it yourself, save the code in a file called "</a:t>
            </a:r>
            <a:r>
              <a:rPr b="1" lang="en-US" sz="2400" spc="-1" strike="noStrike">
                <a:solidFill>
                  <a:srgbClr val="ffffff"/>
                </a:solidFill>
                <a:latin typeface="Arial"/>
              </a:rPr>
              <a:t>firstpage.aspx</a:t>
            </a:r>
            <a:endParaRPr b="0" lang="en-US" sz="2400" spc="-1" strike="noStrike">
              <a:solidFill>
                <a:srgbClr val="ffffff"/>
              </a:solidFill>
              <a:latin typeface="Arial"/>
            </a:endParaRPr>
          </a:p>
        </p:txBody>
      </p:sp>
      <p:sp>
        <p:nvSpPr>
          <p:cNvPr id="237" name=""/>
          <p:cNvSpPr/>
          <p:nvPr/>
        </p:nvSpPr>
        <p:spPr>
          <a:xfrm>
            <a:off x="2971800" y="4419720"/>
            <a:ext cx="5867280" cy="2037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 </a:t>
            </a:r>
            <a:r>
              <a:rPr b="0" lang="en-US" sz="1800" spc="-1" strike="noStrike">
                <a:solidFill>
                  <a:srgbClr val="ffffff"/>
                </a:solidFill>
                <a:latin typeface="Arial"/>
              </a:rPr>
              <a:t>	</a:t>
            </a:r>
            <a:r>
              <a:rPr b="0" lang="en-US" sz="1800" spc="-1" strike="noStrike">
                <a:solidFill>
                  <a:srgbClr val="ffffff"/>
                </a:solidFill>
                <a:latin typeface="Arial"/>
              </a:rPr>
              <a:t>bgcolor="yellow"&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center&gt;&lt;h2&gt;Hello Informatics!&lt;/h2&gt;&lt;/center&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39" name="PlaceHolder 2"/>
          <p:cNvSpPr>
            <a:spLocks noGrp="1"/>
          </p:cNvSpPr>
          <p:nvPr>
            <p:ph/>
          </p:nvPr>
        </p:nvSpPr>
        <p:spPr>
          <a:xfrm>
            <a:off x="456840" y="1599840"/>
            <a:ext cx="8458200" cy="25146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ynamic Pa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de inside the </a:t>
            </a:r>
            <a:r>
              <a:rPr b="1" i="1" lang="en-US" sz="2000" spc="-1" strike="noStrike">
                <a:solidFill>
                  <a:srgbClr val="ffffff"/>
                </a:solidFill>
                <a:latin typeface="Arial"/>
              </a:rPr>
              <a:t>&lt;% --%&gt;</a:t>
            </a:r>
            <a:r>
              <a:rPr b="0" lang="en-US" sz="2000" spc="-1" strike="noStrike">
                <a:solidFill>
                  <a:srgbClr val="ffffff"/>
                </a:solidFill>
                <a:latin typeface="Arial"/>
              </a:rPr>
              <a:t> tags is executed on the serv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Response.Write</a:t>
            </a:r>
            <a:r>
              <a:rPr b="0" lang="en-US" sz="2000" spc="-1" strike="noStrike">
                <a:solidFill>
                  <a:srgbClr val="ffffff"/>
                </a:solidFill>
                <a:latin typeface="Arial"/>
              </a:rPr>
              <a:t> is ASP code for writing something to the HTML output strea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w()</a:t>
            </a:r>
            <a:r>
              <a:rPr b="0" lang="en-US" sz="2000" spc="-1" strike="noStrike">
                <a:solidFill>
                  <a:srgbClr val="ffffff"/>
                </a:solidFill>
                <a:latin typeface="Arial"/>
              </a:rPr>
              <a:t> is a function returning the servers current date and ti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want to try it yourself, save the code in a file called "</a:t>
            </a:r>
            <a:r>
              <a:rPr b="1" lang="en-US" sz="2000" spc="-1" strike="noStrike">
                <a:solidFill>
                  <a:srgbClr val="ffffff"/>
                </a:solidFill>
                <a:latin typeface="Arial"/>
              </a:rPr>
              <a:t>dynpage.asp</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40" name=""/>
          <p:cNvSpPr/>
          <p:nvPr/>
        </p:nvSpPr>
        <p:spPr>
          <a:xfrm>
            <a:off x="2971800" y="3809880"/>
            <a:ext cx="5638680" cy="2454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 bgcolor="yellow"&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center&gt;&lt;h2&gt;Hello Informatics!&lt;/h2&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p&gt;&lt;%Response.Write(now())%&gt;&lt;/p&gt;&lt;/center&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p:txBody>
      </p:sp>
      <p:sp>
        <p:nvSpPr>
          <p:cNvPr id="241" name=""/>
          <p:cNvSpPr/>
          <p:nvPr/>
        </p:nvSpPr>
        <p:spPr>
          <a:xfrm>
            <a:off x="0" y="649116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43"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Techniq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ML</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ff99"/>
                </a:solidFill>
                <a:latin typeface="Arial"/>
              </a:rPr>
              <a:t>&lt;html&gt;</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ff99"/>
                </a:solidFill>
                <a:latin typeface="Arial"/>
              </a:rPr>
              <a:t>&lt;body&gt;</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ff99"/>
                </a:solidFill>
                <a:latin typeface="Arial"/>
              </a:rPr>
              <a:t>	</a:t>
            </a:r>
            <a:r>
              <a:rPr b="1" i="1" lang="en-US" sz="1800" spc="-1" strike="noStrike">
                <a:solidFill>
                  <a:srgbClr val="99ff99"/>
                </a:solidFill>
                <a:latin typeface="Arial"/>
              </a:rPr>
              <a:t>Date time is &lt;% =DateTime.Now( ) %&gt;</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ff99"/>
                </a:solidFill>
                <a:latin typeface="Arial"/>
              </a:rPr>
              <a:t>&lt;/body&gt;</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ff99"/>
                </a:solidFill>
                <a:latin typeface="Arial"/>
              </a:rPr>
              <a:t>&lt;/html&gt;</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B.NE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ff99"/>
                </a:solidFill>
                <a:latin typeface="Arial"/>
              </a:rPr>
              <a:t>Private Sub Page_Load(ByVal sender As System.Object,ByVal e As System.EventArgs) Handles MyBase.Loa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ff99"/>
                </a:solidFill>
                <a:latin typeface="Arial"/>
              </a:rPr>
              <a:t>	</a:t>
            </a:r>
            <a:r>
              <a:rPr b="0" i="1" lang="en-US" sz="2000" spc="-1" strike="noStrike">
                <a:solidFill>
                  <a:srgbClr val="99ff99"/>
                </a:solidFill>
                <a:latin typeface="Arial"/>
              </a:rPr>
              <a:t>	</a:t>
            </a:r>
            <a:r>
              <a:rPr b="0" i="1" lang="en-US" sz="2000" spc="-1" strike="noStrike">
                <a:solidFill>
                  <a:srgbClr val="99ff99"/>
                </a:solidFill>
                <a:latin typeface="Arial"/>
              </a:rPr>
              <a:t>'Put user code to initialize the page her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ff99"/>
                </a:solidFill>
                <a:latin typeface="Arial"/>
              </a:rPr>
              <a:t>	</a:t>
            </a:r>
            <a:r>
              <a:rPr b="0" i="1" lang="en-US" sz="2000" spc="-1" strike="noStrike">
                <a:solidFill>
                  <a:srgbClr val="99ff99"/>
                </a:solidFill>
                <a:latin typeface="Arial"/>
              </a:rPr>
              <a:t>	</a:t>
            </a:r>
            <a:r>
              <a:rPr b="0" i="1" lang="en-US" sz="2000" spc="-1" strike="noStrike">
                <a:solidFill>
                  <a:srgbClr val="99ff99"/>
                </a:solidFill>
                <a:latin typeface="Arial"/>
              </a:rPr>
              <a:t>Label1.Text = "The date and time is " &amp; _ </a:t>
            </a:r>
            <a:r>
              <a:rPr b="0" i="1" lang="en-US" sz="2000" spc="-1" strike="noStrike">
                <a:solidFill>
                  <a:srgbClr val="99ff99"/>
                </a:solidFill>
                <a:latin typeface="Arial"/>
              </a:rPr>
              <a:t>	</a:t>
            </a:r>
            <a:r>
              <a:rPr b="0" i="1" lang="en-US" sz="2000" spc="-1" strike="noStrike">
                <a:solidFill>
                  <a:srgbClr val="99ff99"/>
                </a:solidFill>
                <a:latin typeface="Arial"/>
              </a:rPr>
              <a:t>DateTime.Now.ToString(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ff99"/>
                </a:solidFill>
                <a:latin typeface="Arial"/>
              </a:rPr>
              <a:t>End Sub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s </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99"/>
                </a:solidFill>
                <a:latin typeface="Arial"/>
              </a:rPr>
              <a:t>ASP.Net And The .Net Frame</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s And ASP Controls Detail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ming Web Form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cing, Debugging And Error Handling</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idation</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Binding</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Bound Control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ing Data With Ado.Net</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o Data Update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Bound Control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s And User Control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ing Web Servic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16"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ASP</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 is a server side scripting technology that enables scripts (embedded in web pages) to be executed by an Internet serve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 is a Microsoft Technology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 stands for Active Server Pages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 is a program that runs inside IIS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S stands for Internet Information Services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S comes as a free component with Windows 2000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S is also a part of the Windows NT 4.0 Option Pack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tion Pack can be downloaded from Microsoft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WS is a smaller - but fully functional - version of IIS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WS can be found on your Windows 95/98 CD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7848720" cy="365760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n ASP Fi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SP file is just the same as an HTML file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SP file can contain text, HTML, XML, and scripts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ipts in an ASP file are executed on the server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SP file has the file extension ".asp"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oes it Work?</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browser requests an HTML file, the server returns the file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browser requests an ASP file, IIS passes the request to the ASP engine on the server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P engine reads the file, line by line, and executes the scripts in the file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the ASP file is returned to the browser as plain HTML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22" name="PlaceHolder 2"/>
          <p:cNvSpPr>
            <a:spLocks noGrp="1"/>
          </p:cNvSpPr>
          <p:nvPr>
            <p:ph/>
          </p:nvPr>
        </p:nvSpPr>
        <p:spPr>
          <a:xfrm>
            <a:off x="456840" y="1600200"/>
            <a:ext cx="7924680" cy="3733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ASP.NE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 3.0 is the latest version of ASP, but there will never be an ASP 4.0 version.</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NET is the next generation ASP, but it's not an upgraded version of ASP. ASP.NET is an entirely new paradigm for server-side ASP scripting.</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NET is a part of the .NET Framework. Microsoft spent three years rewriting ASP.NET from the ground up, and ASP.NET is not fully backward compatible with ASP 3.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 Framewor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 Framework is the infrastructure for the Microsoft .NET platform.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 Framework is an environment for building, deploying, and running Web applications and Web Servic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 Framework contains a common language runtime and common class libraries - like ADO.NET, ASP.NET and Windows Forms - to provide advanced standard services that can be integrated into a variety of computer system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 Framework provides a feature-rich application environment, simplified development and easy integration between a numbers of different development languages.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 Framework is language neutral. Currently it supports C++, C#, Visual Basic, and JScript (Microsoft's version of JavaScrip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s Visual Studio.NET is a common development environment for the .NET Frame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in ASP .NE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language suppor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ble control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programming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based component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authentication, with accounts and role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scalability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performance - Compiled code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ier configuration and deploymen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fully ASP compatible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P .NET uses the new ADO .NE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P .NET supports full Visual Basic, not VBScrip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P .NET supports C# (C sharp) and C++.</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P .NET supports JScript as bef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2:27:36Z</dcterms:created>
  <dc:creator>Navin</dc:creator>
  <dc:description/>
  <dc:language>en-US</dc:language>
  <cp:lastModifiedBy>Administrator</cp:lastModifiedBy>
  <dcterms:modified xsi:type="dcterms:W3CDTF">2007-01-24T07:16:18Z</dcterms:modified>
  <cp:revision>8</cp:revision>
  <dc:subject/>
  <dc:title>ASP.NET</dc:title>
</cp:coreProperties>
</file>