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1D1-0443-4BDE-A5A9-A7ED36DDF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VIRUS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9CE-203C-4DCB-B539-FB9724C6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783-063C-46DD-BCBD-59B9F106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1D4-CA4B-4538-B41F-E67BB893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3D4-E173-4929-98AD-2D86F378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EB7-9C5A-4D04-8573-8D638079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322-FF06-4091-87C8-FB9C11BC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BA6-B380-4F34-ACA2-76017C35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FAF-7F1E-4835-9B4E-0F836DAC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F8E-D330-4B9A-8DF6-1F591590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CBC-6AB5-411A-B1E9-5332F6B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04C-F259-40BB-B6DC-7A552817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EBC-F882-4BAB-B105-4C012A68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EF98-80E2-432D-A747-5429328A0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NI JANV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What is vir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Origin of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Types of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How do virus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Symptoms of virus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Prevention of virus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VIRUS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viruses is basically a program      written for destructive purpose. It can enter in the    computer without the knowledge of the machine or the user.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 uses the carries to get into th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ters into the machine through an infected floppy or programs. It damages the data which is stored in the comp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 OF VIR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of viruses started with the possibility of writing self replicating software . This idea was first put forward in 1950 by JOHN NE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he was doing job at that time after office hours he and his friends use to play a game that is each would write a code that would destroy others programmers code (which was out to destroy their code) in the memory, the winner would be the person with the maximum number of liv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at basis he started writting programs and that was the beginning  and within a short time viruses emerged that destroy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basically two of viruses FILE viruses and the BOOT SECTOR viruses. Viruses depending on the disk areas they infect and the way in which they 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File vir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le virus infects only executable files those with extension .EXE and .COM. Some viruses destroy data files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Boot sector vi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ot sector virus infect in the boot sector of the disk and spread by copying in boot sector of all the floppy used in the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virus spread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read of the virus to systems is mainly through the use of infected floppies. A system can get infected by running infected programs ,by starting a system (booting) with a infected flo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irus first monitors the system and then activates itself at proper time to causes harm to our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rus copies itself on the floppies used on the system. This done to ensure that the floppy when used on another machine will infect that machine as well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PTOMS OF VIRUS AT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Frequent hanging of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Decrease space in the main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Decrease in free space available on the floppy d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Loss of parts of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ecreases the speed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Appearance of strange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ENTION OF VIRUS AT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void booting the machine with a flo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If it is required to boot from a floppy use a known floppy which is virus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Never use software which is not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If it is required to use a software it should be virus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on’t give your floppy to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5:08:03Z</dcterms:created>
  <dc:creator>Navin</dc:creator>
  <dc:description/>
  <dc:language>en-US</dc:language>
  <cp:lastModifiedBy>Navin</cp:lastModifiedBy>
  <dcterms:modified xsi:type="dcterms:W3CDTF">2008-11-18T11:48:54Z</dcterms:modified>
  <cp:revision>15</cp:revision>
  <dc:subject/>
  <dc:title>PRESENTATION  ON  VIRUSES</dc:title>
</cp:coreProperties>
</file>