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1AAC-EC09-4548-B69F-A17DAB26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VIRUS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858-8460-4745-A795-3BA4431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0FE-491C-40A9-94DA-8742733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BAA-E924-43B1-ACB0-AFD20A15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CDD-246D-46A4-81B4-A7F21A1F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8CF-8797-47B3-8564-0FDA162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7BB-4010-497B-9D44-B152616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0C5-B354-4EBA-9F97-07F62027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D50-DD8E-48EE-8DFC-AF7D82E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FE1-66C8-45F3-B962-B628392E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EC3-C576-40C2-BCB1-F5367D77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CDC-B442-4194-9373-88D505D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762-D01C-4308-9907-33B83D67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A2B6-618E-407F-8B0E-8B4280494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NI JANV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What is vir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Origin of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Types of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How do virus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Symptoms of virus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Prevention of virus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VIRUS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viruses is basically a program      written for destructive purpose. It can enter in the    computer without the knowledge of the machine or the user.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 uses the carries to get into the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ters into the machine through an infected floppy or programs. It damages the data which is stored in the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 OF VIR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of viruses started with the possibility of writing self replicating software . This idea was first put forward in 1950 by JOHN NEU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he was doing job at that time after office hours he and his friends use to play a game that is each would write a code that would destroy others programmers code (which was out to destroy their code) in the memory, the winner would be the person with the maximum number of liv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at basis he started writting programs and that was the beginning  and within a short time viruses emerged that destroy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basically two of viruses FILE viruses and the BOOT SECTOR viruses. Viruses depending on the disk areas they infect and the way in which they 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ile vir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le virus infects only executable files those with extension .EXE and .COM. Some viruses destroy data files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Boot sector vir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ot sector virus infect in the boot sector of the disk and spread by copying in boot sector of all the floppy used in th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virus sprea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read of the virus to systems is mainly through the use of infected floppies. A system can get infected by running infected programs ,by starting a system (booting) with a infected flo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rus first monitors the system and then activates itself at proper time to causes harm to our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rus copies itself on the floppies used on the system. This done to ensure that the floppy when used on another machine will infect that machine as well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PTOMS OF VIRUS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requent hanging of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ecrease space in the main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Decrease in free space available on the floppy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Loss of parts of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ecreases the speed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 Appearance of strange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ON OF VIRUS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void booting the machine with a flo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If it is required to boot from a floppy use a known floppy which is viru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ever use software which is not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If it is required to use a software it should be viru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n’t give your floppy to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5:08:03Z</dcterms:created>
  <dc:creator>Navin</dc:creator>
  <dc:description/>
  <dc:language>en-US</dc:language>
  <cp:lastModifiedBy>Navin</cp:lastModifiedBy>
  <dcterms:modified xsi:type="dcterms:W3CDTF">2008-11-18T11:48:54Z</dcterms:modified>
  <cp:revision>15</cp:revision>
  <dc:subject/>
  <dc:title>PRESENTATION  ON  VIRUSES</dc:title>
</cp:coreProperties>
</file>