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F44A-9303-45E2-96E9-A883C8D92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5195-2F75-4106-B4FD-18E0461D0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557F-F64E-4E8D-B5E7-877E8D149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194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48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140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194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48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CB7B-BBFF-4D14-9196-A3E005CC5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C5775-42A7-4916-8DCE-F5B454B5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AE174-78A2-4046-A4B1-714C15E5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7F655-3E4D-4218-A9BF-6A49AF1F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71F5A-95A9-4CBF-B2F9-D19723EF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617F9-04E8-4687-8ADF-ADC6E29C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76360" y="152280"/>
            <a:ext cx="5715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6465C-C7D2-4778-B50C-A46FC0E1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CCA9C-32FD-4693-9841-3B7D20C5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019A-820D-4E5D-A234-528444658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52876-DBA0-4ADC-95FB-A01C1CD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BE7E6-5929-4183-90B7-FFBB9FD6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CC4FD-78D7-4A3D-9C7F-660D3824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77F97-42FD-4E69-9AD7-4B8E5712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194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248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40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194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248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C08B4-13DA-441A-996D-A2D044F3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924C-C27B-4431-A866-4099D68A6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A3CB-693C-4726-8126-3549C54C4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6F38-F3C7-489F-BD47-952A41674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76360" y="152280"/>
            <a:ext cx="5715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320D-62B6-41E3-8E15-E84F4F2A0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4536-6B65-4400-A214-D4526579C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8C85-9341-43DB-A925-20AC67CB6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733A-E411-4717-88FE-868BBCCB4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Master%20Index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00400" y="0"/>
            <a:ext cx="5943600" cy="762120"/>
          </a:xfrm>
          <a:prstGeom prst="rect">
            <a:avLst/>
          </a:prstGeom>
          <a:solidFill>
            <a:srgbClr val="e4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EE06-5652-483A-8408-49F81D6098D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28600" y="6172200"/>
            <a:ext cx="7391520" cy="166680"/>
            <a:chOff x="228600" y="6172200"/>
            <a:chExt cx="7391520" cy="166680"/>
          </a:xfrm>
        </p:grpSpPr>
        <p:sp>
          <p:nvSpPr>
            <p:cNvPr id="9" name=""/>
            <p:cNvSpPr/>
            <p:nvPr/>
          </p:nvSpPr>
          <p:spPr>
            <a:xfrm>
              <a:off x="609480" y="6172200"/>
              <a:ext cx="7010640" cy="165600"/>
            </a:xfrm>
            <a:prstGeom prst="roundRect">
              <a:avLst>
                <a:gd name="adj" fmla="val 0"/>
              </a:avLst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28600" y="6172200"/>
              <a:ext cx="393840" cy="166680"/>
            </a:xfrm>
            <a:prstGeom prst="flowChartDelay">
              <a:avLst/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>
            <a:hlinkClick r:id="rId2"/>
          </p:cNvPr>
          <p:cNvSpPr/>
          <p:nvPr/>
        </p:nvSpPr>
        <p:spPr>
          <a:xfrm>
            <a:off x="3352680" y="6400800"/>
            <a:ext cx="1067040" cy="307080"/>
          </a:xfrm>
          <a:prstGeom prst="rect">
            <a:avLst/>
          </a:prstGeom>
          <a:solidFill>
            <a:srgbClr val="91adc2"/>
          </a:solidFill>
          <a:ln w="0">
            <a:noFill/>
          </a:ln>
          <a:effectLst>
            <a:outerShdw dist="17819" dir="2700000" blurRad="0" rotWithShape="0">
              <a:srgbClr val="9bc3c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 flipV="1">
            <a:off x="8305560" y="6552720"/>
            <a:ext cx="15228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763120" y="655308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3" action="ppaction://hlinksldjump"/>
          </p:cNvPr>
          <p:cNvSpPr/>
          <p:nvPr/>
        </p:nvSpPr>
        <p:spPr>
          <a:xfrm>
            <a:off x="4724280" y="6400800"/>
            <a:ext cx="914400" cy="307080"/>
          </a:xfrm>
          <a:prstGeom prst="rect">
            <a:avLst/>
          </a:prstGeom>
          <a:solidFill>
            <a:srgbClr val="91adc2"/>
          </a:solidFill>
          <a:ln w="0">
            <a:noFill/>
          </a:ln>
          <a:effectLst>
            <a:outerShdw dist="17819" dir="2700000" blurRad="0" rotWithShape="0">
              <a:srgbClr val="9bc3c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057400" y="0"/>
            <a:ext cx="457200" cy="762120"/>
          </a:xfrm>
          <a:prstGeom prst="rect">
            <a:avLst/>
          </a:prstGeom>
          <a:solidFill>
            <a:srgbClr val="6b94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1066680" y="0"/>
            <a:ext cx="2362320" cy="762120"/>
            <a:chOff x="1066680" y="0"/>
            <a:chExt cx="2362320" cy="762120"/>
          </a:xfrm>
        </p:grpSpPr>
        <p:sp>
          <p:nvSpPr>
            <p:cNvPr id="17" name=""/>
            <p:cNvSpPr/>
            <p:nvPr/>
          </p:nvSpPr>
          <p:spPr>
            <a:xfrm>
              <a:off x="2514600" y="0"/>
              <a:ext cx="380880" cy="762120"/>
            </a:xfrm>
            <a:prstGeom prst="rect">
              <a:avLst/>
            </a:prstGeom>
            <a:solidFill>
              <a:srgbClr val="5f99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895480" y="0"/>
              <a:ext cx="304920" cy="762120"/>
            </a:xfrm>
            <a:prstGeom prst="rect">
              <a:avLst/>
            </a:prstGeom>
            <a:solidFill>
              <a:srgbClr val="9bc3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00200" y="0"/>
              <a:ext cx="457200" cy="762120"/>
            </a:xfrm>
            <a:prstGeom prst="rect">
              <a:avLst/>
            </a:prstGeom>
            <a:solidFill>
              <a:srgbClr val="6b9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057400" y="0"/>
              <a:ext cx="457200" cy="762120"/>
            </a:xfrm>
            <a:prstGeom prst="rect">
              <a:avLst/>
            </a:prstGeom>
            <a:solidFill>
              <a:srgbClr val="5f99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066680" y="0"/>
              <a:ext cx="533520" cy="762120"/>
            </a:xfrm>
            <a:prstGeom prst="rect">
              <a:avLst/>
            </a:prstGeom>
            <a:solidFill>
              <a:srgbClr val="7a9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0"/>
              <a:ext cx="228600" cy="762120"/>
            </a:xfrm>
            <a:prstGeom prst="rect">
              <a:avLst/>
            </a:prstGeom>
            <a:solidFill>
              <a:srgbClr val="9bc3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1a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dt" idx="2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3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4"/>
          </p:nvPr>
        </p:nvSpPr>
        <p:spPr>
          <a:xfrm>
            <a:off x="10800" y="5962320"/>
            <a:ext cx="5857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5C11-304C-43A1-BE3F-4931F098B8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93816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5781BC0-6DDC-43A3-B650-897FADD399FB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08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685800"/>
            <a:ext cx="4191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3" action="ppaction://hlinksldjump"/>
              </a:rPr>
              <a:t>S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4" action="ppaction://hlinksldjump"/>
              </a:rPr>
              <a:t>Further Stack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5" action="ppaction://hlinksldjump"/>
              </a:rPr>
              <a:t>Pushing/Popping a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6" action="ppaction://hlinksldjump"/>
              </a:rPr>
              <a:t>Class Stac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3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7" action="ppaction://hlinksldjump"/>
              </a:rPr>
              <a:t>Using a Stack to Create a Hex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8" action="ppaction://hlinksldjump"/>
              </a:rPr>
              <a:t>Uncoupling Stack </a:t>
            </a: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9" action="ppaction://hlinksldjump"/>
              </a:rPr>
              <a:t>Elt’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6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0" action="ppaction://hlinksldjump"/>
              </a:rPr>
              <a:t>Activation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1" action="ppaction://hlinksldjump"/>
              </a:rPr>
              <a:t>R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9997"/>
                </a:solidFill>
                <a:latin typeface="Arial"/>
              </a:rPr>
              <a:t>Chapter 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9997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5f9997"/>
                </a:solidFill>
                <a:latin typeface="Arial"/>
              </a:rPr>
              <a:t>S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762120"/>
            <a:ext cx="4191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2" action="ppaction://hlinksldjump"/>
              </a:rPr>
              <a:t>Infix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3" action="ppaction://hlinksldjump"/>
              </a:rPr>
              <a:t>Summary Slide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4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57A3-711A-4C75-ACB2-A60D8796AC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227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38196B1-2D42-4200-B775-5C95C4ECF2CE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230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>
              <a:hlinkClick r:id="rId1"/>
            </p:cNvPr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>
              <a:hlinkClick r:id="rId2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Uncoupling Stack Element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1447920"/>
          <a:ext cx="9144000" cy="39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914400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E52D-0CE3-4C6F-A703-0E542CEB10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240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7DFEDF4-A3DD-4E29-AC54-FAA0C5332018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243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>
              <a:hlinkClick r:id="rId1"/>
            </p:cNvPr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>
              <a:hlinkClick r:id="rId2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Uncoupling Stack Element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447920"/>
          <a:ext cx="9144000" cy="41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914400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A94F-D06F-4F90-BB24-9519ACE3DC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253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A14E759-642B-41EB-B8B3-6D62DCB02F69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256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>
              <a:hlinkClick r:id="rId1"/>
            </p:cNvPr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>
              <a:hlinkClick r:id="rId2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Uncoupling Stack Element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1828800"/>
          <a:ext cx="9144000" cy="34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914400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FF83-E16D-4DC1-88C0-CD106677E9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266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82457CF-150C-4176-A426-FDC3A9D45C19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269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Uncoupling Stack Element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0" y="1219320"/>
          <a:ext cx="9144000" cy="43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19320"/>
                    <a:ext cx="91440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35FD-188C-4FF3-9921-A357CF7961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279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E117C9D-7F13-47DB-A088-A58BF85F0578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282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Uncoupling Stack Element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0" y="1371600"/>
          <a:ext cx="9144000" cy="369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914400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1745-7CB8-4ED1-A332-919F017E21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030BCC4-91B9-44C1-B335-55285E590F5C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95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22884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95280" y="76320"/>
          <a:ext cx="6629400" cy="16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76320"/>
                    <a:ext cx="66294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2952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-228600" y="1687680"/>
            <a:ext cx="9296280" cy="4255920"/>
            <a:chOff x="-228600" y="1687680"/>
            <a:chExt cx="9296280" cy="4255920"/>
          </a:xfrm>
        </p:grpSpPr>
        <p:graphicFrame>
          <p:nvGraphicFramePr>
            <p:cNvPr id="306" name=""/>
            <p:cNvGraphicFramePr/>
            <p:nvPr/>
          </p:nvGraphicFramePr>
          <p:xfrm>
            <a:off x="-228600" y="1687680"/>
            <a:ext cx="9144000" cy="2184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-228600" y="1687680"/>
                      <a:ext cx="9144000" cy="21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"/>
            <p:cNvGraphicFramePr/>
            <p:nvPr/>
          </p:nvGraphicFramePr>
          <p:xfrm>
            <a:off x="-76320" y="3567240"/>
            <a:ext cx="9144000" cy="2376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-76320" y="3567240"/>
                      <a:ext cx="914400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0501-9320-4C27-B531-7F7FC59EF8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311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55F345A-58E8-4193-9CEE-16436ED19A3F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314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0" name=""/>
          <p:cNvGraphicFramePr/>
          <p:nvPr/>
        </p:nvGraphicFramePr>
        <p:xfrm>
          <a:off x="325440" y="-58680"/>
          <a:ext cx="8799480" cy="630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-58680"/>
                    <a:ext cx="879948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FF77-3422-402F-B298-35C6747206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0411307-3763-4B8D-888A-9184E7F52769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26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240" y="1116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fix Expression Ru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gure below gives input precedence, stack precedence, and rank used for the operators +, -, *, /, %, and ^, along with the parentheses. Except for the exponential operator ^, the other binary operators are left-associative and have equal input and stack preced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133640" y="2606760"/>
            <a:ext cx="6638760" cy="3565440"/>
            <a:chOff x="1133640" y="2606760"/>
            <a:chExt cx="6638760" cy="3565440"/>
          </a:xfrm>
        </p:grpSpPr>
        <p:grpSp>
          <p:nvGrpSpPr>
            <p:cNvPr id="334" name=""/>
            <p:cNvGrpSpPr/>
            <p:nvPr/>
          </p:nvGrpSpPr>
          <p:grpSpPr>
            <a:xfrm>
              <a:off x="1138320" y="2609640"/>
              <a:ext cx="6629400" cy="3558960"/>
              <a:chOff x="1138320" y="2609640"/>
              <a:chExt cx="6629400" cy="35589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1138320" y="2609640"/>
                <a:ext cx="6629400" cy="484200"/>
                <a:chOff x="1138320" y="2609640"/>
                <a:chExt cx="6629400" cy="4842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206720" y="2609640"/>
                  <a:ext cx="64926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ecedenc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138320" y="2609640"/>
                  <a:ext cx="662940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1138320" y="3093840"/>
                <a:ext cx="1657440" cy="653040"/>
                <a:chOff x="1138320" y="3093840"/>
                <a:chExt cx="1657440" cy="6530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206720" y="3093840"/>
                  <a:ext cx="1520640" cy="65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ymb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138320" y="3093840"/>
                  <a:ext cx="1657440" cy="65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795760" y="3093840"/>
                <a:ext cx="1657440" cy="653040"/>
                <a:chOff x="2795760" y="3093840"/>
                <a:chExt cx="1657440" cy="6530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863800" y="3093840"/>
                  <a:ext cx="1521000" cy="65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put preceden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795760" y="3093840"/>
                  <a:ext cx="1657440" cy="65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4453200" y="3093840"/>
                <a:ext cx="1657080" cy="653040"/>
                <a:chOff x="4453200" y="3093840"/>
                <a:chExt cx="1657080" cy="6530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521240" y="3093840"/>
                  <a:ext cx="1521000" cy="65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tack preceden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453200" y="3093840"/>
                  <a:ext cx="1657080" cy="65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110280" y="3093840"/>
                <a:ext cx="1657440" cy="653040"/>
                <a:chOff x="6110280" y="3093840"/>
                <a:chExt cx="1657440" cy="6530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178680" y="3093840"/>
                  <a:ext cx="1520640" cy="65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n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110280" y="3093840"/>
                  <a:ext cx="1657440" cy="65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1138320" y="3746880"/>
                <a:ext cx="1657440" cy="484200"/>
                <a:chOff x="1138320" y="3746880"/>
                <a:chExt cx="1657440" cy="4842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206720" y="374688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  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138320" y="374688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795760" y="3746880"/>
                <a:ext cx="1657440" cy="484200"/>
                <a:chOff x="2795760" y="3746880"/>
                <a:chExt cx="1657440" cy="4842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863800" y="374688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95760" y="374688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4453200" y="3746880"/>
                <a:ext cx="1657080" cy="484200"/>
                <a:chOff x="4453200" y="3746880"/>
                <a:chExt cx="1657080" cy="4842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521240" y="374688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453200" y="3746880"/>
                  <a:ext cx="165708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6110280" y="3746880"/>
                <a:ext cx="1657440" cy="484200"/>
                <a:chOff x="6110280" y="3746880"/>
                <a:chExt cx="1657440" cy="4842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178680" y="374688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110280" y="374688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1138320" y="4231440"/>
                <a:ext cx="1657440" cy="484200"/>
                <a:chOff x="1138320" y="4231440"/>
                <a:chExt cx="1657440" cy="4842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206720" y="423144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*  /  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138320" y="42314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795760" y="4231440"/>
                <a:ext cx="1657440" cy="484200"/>
                <a:chOff x="2795760" y="4231440"/>
                <a:chExt cx="1657440" cy="4842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2863800" y="423144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795760" y="42314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4453200" y="4231440"/>
                <a:ext cx="1657080" cy="484200"/>
                <a:chOff x="4453200" y="4231440"/>
                <a:chExt cx="1657080" cy="4842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521240" y="423144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453200" y="4231440"/>
                  <a:ext cx="165708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6110280" y="4231440"/>
                <a:ext cx="1657440" cy="484200"/>
                <a:chOff x="6110280" y="4231440"/>
                <a:chExt cx="1657440" cy="4842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178680" y="423144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110280" y="42314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138320" y="4715640"/>
                <a:ext cx="1657440" cy="484200"/>
                <a:chOff x="1138320" y="4715640"/>
                <a:chExt cx="1657440" cy="4842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206720" y="471564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^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38320" y="47156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795760" y="4715640"/>
                <a:ext cx="1657440" cy="484200"/>
                <a:chOff x="2795760" y="4715640"/>
                <a:chExt cx="1657440" cy="4842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863800" y="471564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795760" y="47156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4453200" y="4715640"/>
                <a:ext cx="1657080" cy="484200"/>
                <a:chOff x="4453200" y="4715640"/>
                <a:chExt cx="1657080" cy="4842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4521240" y="471564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453200" y="4715640"/>
                  <a:ext cx="165708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110280" y="4715640"/>
                <a:ext cx="1657440" cy="484200"/>
                <a:chOff x="6110280" y="4715640"/>
                <a:chExt cx="1657440" cy="4842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178680" y="471564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110280" y="47156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1138320" y="5199840"/>
                <a:ext cx="1657440" cy="484200"/>
                <a:chOff x="1138320" y="5199840"/>
                <a:chExt cx="1657440" cy="4842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206720" y="519984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138320" y="51998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2795760" y="5199840"/>
                <a:ext cx="1657440" cy="484200"/>
                <a:chOff x="2795760" y="5199840"/>
                <a:chExt cx="1657440" cy="4842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863800" y="519984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795760" y="51998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453200" y="5199840"/>
                <a:ext cx="1657080" cy="484200"/>
                <a:chOff x="4453200" y="5199840"/>
                <a:chExt cx="1657080" cy="4842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521240" y="519984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453200" y="5199840"/>
                  <a:ext cx="165708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6110280" y="5199840"/>
                <a:ext cx="1657440" cy="484200"/>
                <a:chOff x="6110280" y="5199840"/>
                <a:chExt cx="1657440" cy="4842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178680" y="519984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110280" y="51998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1138320" y="5684400"/>
                <a:ext cx="1657440" cy="484200"/>
                <a:chOff x="1138320" y="5684400"/>
                <a:chExt cx="1657440" cy="4842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206720" y="568440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38320" y="568440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2795760" y="5684400"/>
                <a:ext cx="1657440" cy="484200"/>
                <a:chOff x="2795760" y="5684400"/>
                <a:chExt cx="1657440" cy="4842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863800" y="568440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795760" y="568440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453200" y="5684400"/>
                <a:ext cx="1657080" cy="484200"/>
                <a:chOff x="4453200" y="5684400"/>
                <a:chExt cx="1657080" cy="4842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521240" y="568440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453200" y="5684400"/>
                  <a:ext cx="165708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110280" y="5684400"/>
                <a:ext cx="1657440" cy="484200"/>
                <a:chOff x="6110280" y="5684400"/>
                <a:chExt cx="1657440" cy="4842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6178680" y="568440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110280" y="568440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0" name=""/>
            <p:cNvSpPr/>
            <p:nvPr/>
          </p:nvSpPr>
          <p:spPr>
            <a:xfrm>
              <a:off x="1133640" y="2606760"/>
              <a:ext cx="6638760" cy="3565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F95B-CA9E-402A-B8A7-1B35E14D5D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412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2634F7F-1697-47A0-91CC-4B16F7A32013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415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1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838080"/>
            <a:ext cx="9144000" cy="28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age Structure with insert (push) and erase (po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s occur at one end, called the top of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element in is the first element out of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ck, so a stack is a LIFO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8833-36DC-49B3-854B-0C1F39F4C3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425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64C6C2E-3BA9-4653-A955-23EC2089BABC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428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2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838080"/>
            <a:ext cx="91440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u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maintains a stack of activation record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specif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nction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cal variables/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tur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pushes an activation record wh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ing a function and pops it when retu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5670-A16C-4256-B314-6BE0D1EFD5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Stack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ck is a sequence of items that are accessible at only one end of the sequ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2060640"/>
            <a:ext cx="8381880" cy="39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B961-4483-4DAA-91DB-1E5DE8BA1A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438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53C1BC5-FE64-4DC0-BE03-D768A6EC9EEF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441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3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3808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tfix/RPN Expression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s the operator after its ope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evaluate using a single stack to hol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ediately push an operand onto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binary operator, pop the stack twice, perform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, and push the result onto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end a single value remains on the stack. This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alue of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971F-63DC-4DB5-8224-7164D83690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451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7337A85-85B3-4F88-85E8-68D4FD661445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454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4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838080"/>
            <a:ext cx="914400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ix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inary operator appears between its oper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complex than postfix, because it requires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operator precedence and 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, some operators are left-associative,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w are right-associ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FA81-DE0D-4685-BCFD-36DB27348C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459F4FD-1E20-4C58-B439-EB47F5E58FFC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24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4443"/>
                </a:solidFill>
                <a:latin typeface="Arial"/>
              </a:rPr>
              <a:t>Further Stack Exampl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9144000" cy="547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B831-74F8-4A0A-83CE-AFA4C53600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Pushing/Popping a Stack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8381880" cy="2781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a pop removes the item last added to the stack, we say that a stack has LIFO (last-in/first-out) ord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0A5B-B056-4422-9AC2-AC092F4BEB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A4D793E-BA44-4D89-A7CF-756BD0E4A693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39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0" y="0"/>
            <a:ext cx="9144000" cy="2209680"/>
            <a:chOff x="0" y="0"/>
            <a:chExt cx="9144000" cy="220968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9144000" cy="22096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0" y="0"/>
              <a:ext cx="9143640" cy="921960"/>
              <a:chOff x="0" y="0"/>
              <a:chExt cx="9143640" cy="92196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0"/>
                <a:ext cx="9143640" cy="92196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159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93200" y="11880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nstru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62360" y="1159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&lt;stack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0" y="115236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stack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eate an empty stack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2133720"/>
            <a:ext cx="9144000" cy="4038480"/>
            <a:chOff x="0" y="2133720"/>
            <a:chExt cx="9144000" cy="4038480"/>
          </a:xfrm>
        </p:grpSpPr>
        <p:sp>
          <p:nvSpPr>
            <p:cNvPr id="154" name=""/>
            <p:cNvSpPr/>
            <p:nvPr/>
          </p:nvSpPr>
          <p:spPr>
            <a:xfrm>
              <a:off x="0" y="2133720"/>
              <a:ext cx="9144000" cy="40384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0" y="2133720"/>
              <a:ext cx="9143640" cy="921960"/>
              <a:chOff x="0" y="2133720"/>
              <a:chExt cx="9143640" cy="92196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2133720"/>
                <a:ext cx="9143640" cy="92196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224964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93200" y="225252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62360" y="224964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&lt;stack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0" y="3286080"/>
              <a:ext cx="9144000" cy="12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ool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 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; con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eck whether the stack is empty. Return true if it is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mpty and false otherwise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5C38-95CF-4BC3-ABEB-1BC313E4AB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9ED1830-893F-4822-8326-91C4317F787C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65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0" y="0"/>
            <a:ext cx="9144000" cy="6172200"/>
            <a:chOff x="0" y="0"/>
            <a:chExt cx="9144000" cy="6172200"/>
          </a:xfrm>
        </p:grpSpPr>
        <p:sp>
          <p:nvSpPr>
            <p:cNvPr id="172" name=""/>
            <p:cNvSpPr/>
            <p:nvPr/>
          </p:nvSpPr>
          <p:spPr>
            <a:xfrm>
              <a:off x="0" y="0"/>
              <a:ext cx="9144000" cy="617220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0" y="0"/>
              <a:ext cx="9143640" cy="921960"/>
              <a:chOff x="0" y="0"/>
              <a:chExt cx="9143640" cy="92196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0"/>
                <a:ext cx="9143640" cy="92196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1159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93200" y="11880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62360" y="1159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&lt;stack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0" y="1152360"/>
              <a:ext cx="9144000" cy="21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id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po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move the item from the top of the stack.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condi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stack is not empty.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condi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ither the stack is empty or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stack has a new topmost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em from a previous push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3429000"/>
              <a:ext cx="9144000" cy="15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id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pus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onst T&amp; item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sert the argument item at the top of the stack.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condition: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stack has a new item at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top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7FF9-138B-405C-82FD-4902E5DA0E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17D5106-5F7E-4C46-89CA-F21BBC50FCD2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84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0" y="0"/>
            <a:ext cx="9144000" cy="6172200"/>
            <a:chOff x="0" y="0"/>
            <a:chExt cx="9144000" cy="6172200"/>
          </a:xfrm>
        </p:grpSpPr>
        <p:sp>
          <p:nvSpPr>
            <p:cNvPr id="191" name=""/>
            <p:cNvSpPr/>
            <p:nvPr/>
          </p:nvSpPr>
          <p:spPr>
            <a:xfrm>
              <a:off x="0" y="0"/>
              <a:ext cx="9144000" cy="617220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0" y="0"/>
              <a:ext cx="9143640" cy="921960"/>
              <a:chOff x="0" y="0"/>
              <a:chExt cx="9143640" cy="92196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0"/>
                <a:ext cx="9143640" cy="92196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1159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93200" y="11880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62360" y="1159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&lt;stack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0" y="115236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siz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 cons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urn the number of items on the stack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2133720"/>
              <a:ext cx="9144000" cy="16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&amp;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to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 cons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urn a reference to the value of the item at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p of the stack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condi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stack is not empt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80988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st T&amp;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to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 cons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stant version of top(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AD28-8AC5-47FA-B330-CAC12504B1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5E65829-D681-4E42-8017-7DEDEF6DC816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04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Using a Stack to Create a Hex Number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262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52480"/>
                    <a:ext cx="914400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7EEB-EA55-4442-A2FC-C62F273F8B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76320"/>
            <a:ext cx="9144000" cy="6858000"/>
            <a:chOff x="0" y="76320"/>
            <a:chExt cx="9144000" cy="6858000"/>
          </a:xfrm>
        </p:grpSpPr>
        <p:sp>
          <p:nvSpPr>
            <p:cNvPr id="214" name=""/>
            <p:cNvSpPr/>
            <p:nvPr/>
          </p:nvSpPr>
          <p:spPr>
            <a:xfrm>
              <a:off x="0" y="7632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240" y="641880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EF5E5C0-45DF-4C3F-B0E6-34CEF3EEC93A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28600" y="6248520"/>
              <a:ext cx="7391520" cy="166680"/>
              <a:chOff x="228600" y="6248520"/>
              <a:chExt cx="7391520" cy="166680"/>
            </a:xfrm>
          </p:grpSpPr>
          <p:sp>
            <p:nvSpPr>
              <p:cNvPr id="217" name=""/>
              <p:cNvSpPr/>
              <p:nvPr/>
            </p:nvSpPr>
            <p:spPr>
              <a:xfrm>
                <a:off x="609480" y="624852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28600" y="624852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>
              <a:hlinkClick r:id="rId1"/>
            </p:cNvPr>
            <p:cNvSpPr/>
            <p:nvPr/>
          </p:nvSpPr>
          <p:spPr>
            <a:xfrm>
              <a:off x="3352680" y="647712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>
              <a:hlinkClick r:id="rId2" action="ppaction://hlinksldjump"/>
            </p:cNvPr>
            <p:cNvSpPr/>
            <p:nvPr/>
          </p:nvSpPr>
          <p:spPr>
            <a:xfrm>
              <a:off x="4724280" y="647712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63120" y="662940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8305560" y="662904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Uncoupling Stack Element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1752480"/>
          <a:ext cx="9144000" cy="360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52480"/>
                    <a:ext cx="9144000" cy="36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C1D2-3A2D-4CBD-BED8-838CABE192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18:26:05Z</dcterms:created>
  <dc:creator>Navin</dc:creator>
  <dc:description/>
  <dc:language>en-US</dc:language>
  <cp:lastModifiedBy>William Ford</cp:lastModifiedBy>
  <cp:lastPrinted>1999-06-29T23:04:46Z</cp:lastPrinted>
  <dcterms:modified xsi:type="dcterms:W3CDTF">2001-08-26T23:12:33Z</dcterms:modified>
  <cp:revision>496</cp:revision>
  <dc:subject/>
  <dc:title>No Slide Title</dc:title>
</cp:coreProperties>
</file>