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65F21-096A-42C9-9DA9-70E6A7D2A4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914040" y="35881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1DE00-A603-4449-BFA6-626A2FDFD4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13720" y="762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914040" y="3588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013720" y="3588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0A9E1-2F7A-4227-B6DD-F7FE0F40C5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619440" y="7621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324840" y="7621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914040" y="35881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619440" y="35881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324840" y="35881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D5C03-EC06-4D2E-97C8-EE5B33ED35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18E13B-E9F4-4656-A03D-6F9EA6124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4040" y="7621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7613C6-16FC-414C-A77F-E15961E0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227DB-CD59-459C-A5F8-9AC888DC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7621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8E092-4E94-4BF9-92D7-353BC5EE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BAF8A-C79F-4F89-9342-D5360246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76360" y="152280"/>
            <a:ext cx="57150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F13825-0DC4-432E-AEA2-F841A824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13720" y="7621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040" y="3588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64CE19-2605-4C5D-BD03-A2D9681F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914040" y="7621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67108-F358-457B-9FBE-C173778AE8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762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3720" y="3588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B4313-FB8D-4505-B480-3226FF67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13720" y="762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040" y="35881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78ABE0-772D-4801-A0CD-EF121530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4040" y="35881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CF6A5-0278-4F82-AF0C-A2B5058D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13720" y="762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4040" y="3588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13720" y="3588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90DAB7-6339-4864-BB4A-E62920EF1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19440" y="7621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24840" y="7621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4040" y="35881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19440" y="35881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24840" y="35881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B8FA0D-2B9C-47F7-AD8E-9518C936E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CC17F-1FB5-418E-AB34-427E8C8E35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13720" y="7621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F29D2-BF6E-4CAF-B599-2F93F4B990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E5FC6-BCF8-4AA7-8F31-0F734988EA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276360" y="152280"/>
            <a:ext cx="57150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28D91-E5AF-43C1-8753-2832E737D5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13720" y="7621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3588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5B6EA-FA8D-498A-A0F2-2FE6E67D9E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762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013720" y="3588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580F5-9D4E-4E4D-82DC-08AC99DE1E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13720" y="7621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914040" y="35881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27C40-B774-4668-90F9-CA35FBB049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file:///Master%20Index.ppt" TargetMode="External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00400" y="0"/>
            <a:ext cx="5943600" cy="762120"/>
          </a:xfrm>
          <a:prstGeom prst="rect">
            <a:avLst/>
          </a:prstGeom>
          <a:solidFill>
            <a:srgbClr val="e4e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1ad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1ad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999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040" y="7621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669A-F4EA-4BE4-9DAF-96F4C34B404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228600" y="6172200"/>
            <a:ext cx="7391520" cy="166680"/>
            <a:chOff x="228600" y="6172200"/>
            <a:chExt cx="7391520" cy="166680"/>
          </a:xfrm>
        </p:grpSpPr>
        <p:sp>
          <p:nvSpPr>
            <p:cNvPr id="9" name=""/>
            <p:cNvSpPr/>
            <p:nvPr/>
          </p:nvSpPr>
          <p:spPr>
            <a:xfrm>
              <a:off x="609480" y="6172200"/>
              <a:ext cx="7010640" cy="165600"/>
            </a:xfrm>
            <a:prstGeom prst="roundRect">
              <a:avLst>
                <a:gd name="adj" fmla="val 0"/>
              </a:avLst>
            </a:prstGeom>
            <a:solidFill>
              <a:srgbClr val="9b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228600" y="6172200"/>
              <a:ext cx="393840" cy="166680"/>
            </a:xfrm>
            <a:prstGeom prst="flowChartDelay">
              <a:avLst/>
            </a:prstGeom>
            <a:solidFill>
              <a:srgbClr val="9b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>
            <a:hlinkClick r:id="rId2"/>
          </p:cNvPr>
          <p:cNvSpPr/>
          <p:nvPr/>
        </p:nvSpPr>
        <p:spPr>
          <a:xfrm>
            <a:off x="3352680" y="6400800"/>
            <a:ext cx="1067040" cy="307080"/>
          </a:xfrm>
          <a:prstGeom prst="rect">
            <a:avLst/>
          </a:prstGeom>
          <a:solidFill>
            <a:srgbClr val="91adc2"/>
          </a:solidFill>
          <a:ln w="0">
            <a:noFill/>
          </a:ln>
          <a:effectLst>
            <a:outerShdw dist="17819" dir="2700000" blurRad="0" rotWithShape="0">
              <a:srgbClr val="9bc3c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 Ind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 flipV="1">
            <a:off x="8305560" y="6552720"/>
            <a:ext cx="152280" cy="1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763120" y="6553080"/>
            <a:ext cx="1522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>
            <a:hlinkClick r:id="rId3" action="ppaction://hlinksldjump"/>
          </p:cNvPr>
          <p:cNvSpPr/>
          <p:nvPr/>
        </p:nvSpPr>
        <p:spPr>
          <a:xfrm>
            <a:off x="4724280" y="6400800"/>
            <a:ext cx="914400" cy="307080"/>
          </a:xfrm>
          <a:prstGeom prst="rect">
            <a:avLst/>
          </a:prstGeom>
          <a:solidFill>
            <a:srgbClr val="91adc2"/>
          </a:solidFill>
          <a:ln w="0">
            <a:noFill/>
          </a:ln>
          <a:effectLst>
            <a:outerShdw dist="17819" dir="2700000" blurRad="0" rotWithShape="0">
              <a:srgbClr val="9bc3c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2057400" y="0"/>
            <a:ext cx="457200" cy="762120"/>
          </a:xfrm>
          <a:prstGeom prst="rect">
            <a:avLst/>
          </a:prstGeom>
          <a:solidFill>
            <a:srgbClr val="6b94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" name=""/>
          <p:cNvGrpSpPr/>
          <p:nvPr/>
        </p:nvGrpSpPr>
        <p:grpSpPr>
          <a:xfrm>
            <a:off x="1066680" y="0"/>
            <a:ext cx="2362320" cy="762120"/>
            <a:chOff x="1066680" y="0"/>
            <a:chExt cx="2362320" cy="762120"/>
          </a:xfrm>
        </p:grpSpPr>
        <p:sp>
          <p:nvSpPr>
            <p:cNvPr id="17" name=""/>
            <p:cNvSpPr/>
            <p:nvPr/>
          </p:nvSpPr>
          <p:spPr>
            <a:xfrm>
              <a:off x="2514600" y="0"/>
              <a:ext cx="380880" cy="762120"/>
            </a:xfrm>
            <a:prstGeom prst="rect">
              <a:avLst/>
            </a:prstGeom>
            <a:solidFill>
              <a:srgbClr val="5f99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895480" y="0"/>
              <a:ext cx="304920" cy="762120"/>
            </a:xfrm>
            <a:prstGeom prst="rect">
              <a:avLst/>
            </a:prstGeom>
            <a:solidFill>
              <a:srgbClr val="9bc3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600200" y="0"/>
              <a:ext cx="457200" cy="762120"/>
            </a:xfrm>
            <a:prstGeom prst="rect">
              <a:avLst/>
            </a:prstGeom>
            <a:solidFill>
              <a:srgbClr val="6b94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057400" y="0"/>
              <a:ext cx="457200" cy="762120"/>
            </a:xfrm>
            <a:prstGeom prst="rect">
              <a:avLst/>
            </a:prstGeom>
            <a:solidFill>
              <a:srgbClr val="5f99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066680" y="0"/>
              <a:ext cx="533520" cy="762120"/>
            </a:xfrm>
            <a:prstGeom prst="rect">
              <a:avLst/>
            </a:prstGeom>
            <a:solidFill>
              <a:srgbClr val="7a9c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0"/>
              <a:ext cx="228600" cy="762120"/>
            </a:xfrm>
            <a:prstGeom prst="rect">
              <a:avLst/>
            </a:prstGeom>
            <a:solidFill>
              <a:srgbClr val="9bc3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1ad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6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9b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9b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dt" idx="2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3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4"/>
          </p:nvPr>
        </p:nvSpPr>
        <p:spPr>
          <a:xfrm>
            <a:off x="10800" y="5962320"/>
            <a:ext cx="5857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67CF-81CF-4F5C-BB71-50E08FB2347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93816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Master%20Index.ppt" TargetMode="External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9.xml"/><Relationship Id="rId10" Type="http://schemas.openxmlformats.org/officeDocument/2006/relationships/slide" Target="slide15.xml"/><Relationship Id="rId11" Type="http://schemas.openxmlformats.org/officeDocument/2006/relationships/slide" Target="slide16.xml"/><Relationship Id="rId12" Type="http://schemas.openxmlformats.org/officeDocument/2006/relationships/slide" Target="slide17.xml"/><Relationship Id="rId13" Type="http://schemas.openxmlformats.org/officeDocument/2006/relationships/slide" Target="slide18.xml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Master%20Index.ppt" TargetMode="External"/><Relationship Id="rId2" Type="http://schemas.openxmlformats.org/officeDocument/2006/relationships/slide" Target="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Master%20Index.ppt" TargetMode="External"/><Relationship Id="rId2" Type="http://schemas.openxmlformats.org/officeDocument/2006/relationships/slide" Target="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Master%20Index.ppt" TargetMode="External"/><Relationship Id="rId2" Type="http://schemas.openxmlformats.org/officeDocument/2006/relationships/slide" Target="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Master%20Index.ppt" TargetMode="External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Master%20Index.ppt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Master%20Index.ppt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Master%20Index.ppt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Master%20Index.ppt" TargetMode="External"/><Relationship Id="rId2" Type="http://schemas.openxmlformats.org/officeDocument/2006/relationships/slide" Target="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Master%20Index.ppt" TargetMode="External"/><Relationship Id="rId2" Type="http://schemas.openxmlformats.org/officeDocument/2006/relationships/slide" Target="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8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5E73A38C-CB43-4940-BA75-86B6B013A220}" type="slidenum">
                <a:rPr b="1" lang="en-US" sz="2600" spc="-1" strike="noStrike">
                  <a:solidFill>
                    <a:srgbClr val="9bc3c6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108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b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b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>
              <a:hlinkClick r:id="rId1"/>
            </p:cNvPr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91adc2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>
              <a:hlinkClick r:id="rId2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91adc2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0" y="685800"/>
            <a:ext cx="41911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45655"/>
                </a:solidFill>
                <a:uFillTx/>
                <a:latin typeface="Times New Roman"/>
                <a:hlinkClick r:id="rId3" action="ppaction://hlinksldjump"/>
              </a:rPr>
              <a:t>S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45655"/>
                </a:solidFill>
                <a:uFillTx/>
                <a:latin typeface="Times New Roman"/>
                <a:hlinkClick r:id="rId4" action="ppaction://hlinksldjump"/>
              </a:rPr>
              <a:t>Further Stack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45655"/>
                </a:solidFill>
                <a:uFillTx/>
                <a:latin typeface="Times New Roman"/>
                <a:hlinkClick r:id="rId5" action="ppaction://hlinksldjump"/>
              </a:rPr>
              <a:t>Pushing/Popping a 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45655"/>
                </a:solidFill>
                <a:uFillTx/>
                <a:latin typeface="Times New Roman"/>
                <a:hlinkClick r:id="rId6" action="ppaction://hlinksldjump"/>
              </a:rPr>
              <a:t>Class Stac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3 slid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45655"/>
                </a:solidFill>
                <a:uFillTx/>
                <a:latin typeface="Times New Roman"/>
                <a:hlinkClick r:id="rId7" action="ppaction://hlinksldjump"/>
              </a:rPr>
              <a:t>Using a Stack to Create a Hex #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45655"/>
                </a:solidFill>
                <a:uFillTx/>
                <a:latin typeface="Times New Roman"/>
                <a:hlinkClick r:id="rId8" action="ppaction://hlinksldjump"/>
              </a:rPr>
              <a:t>Uncoupling Stack </a:t>
            </a:r>
            <a:r>
              <a:rPr b="0" lang="en-US" sz="2000" spc="-1" strike="noStrike" u="sng">
                <a:solidFill>
                  <a:srgbClr val="345655"/>
                </a:solidFill>
                <a:uFillTx/>
                <a:latin typeface="Times New Roman"/>
                <a:hlinkClick r:id="rId9" action="ppaction://hlinksldjump"/>
              </a:rPr>
              <a:t>Elt’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6 slid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45655"/>
                </a:solidFill>
                <a:uFillTx/>
                <a:latin typeface="Times New Roman"/>
                <a:hlinkClick r:id="rId10" action="ppaction://hlinksldjump"/>
              </a:rPr>
              <a:t>Activation Rec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45655"/>
                </a:solidFill>
                <a:uFillTx/>
                <a:latin typeface="Times New Roman"/>
                <a:hlinkClick r:id="rId11" action="ppaction://hlinksldjump"/>
              </a:rPr>
              <a:t>R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9997"/>
                </a:solidFill>
                <a:latin typeface="Arial"/>
              </a:rPr>
              <a:t>Chapter 7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9997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5f9997"/>
                </a:solidFill>
                <a:latin typeface="Arial"/>
              </a:rPr>
              <a:t>S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762120"/>
            <a:ext cx="41911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45655"/>
                </a:solidFill>
                <a:uFillTx/>
                <a:latin typeface="Times New Roman"/>
                <a:hlinkClick r:id="rId12" action="ppaction://hlinksldjump"/>
              </a:rPr>
              <a:t>Infix No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45655"/>
                </a:solidFill>
                <a:uFillTx/>
                <a:latin typeface="Times New Roman"/>
                <a:hlinkClick r:id="rId13" action="ppaction://hlinksldjump"/>
              </a:rPr>
              <a:t>Summary Slide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(4 slid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731DD-AA31-4819-9B6B-ED37C1DB7B0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0" y="9360"/>
            <a:ext cx="9144000" cy="6858000"/>
            <a:chOff x="0" y="9360"/>
            <a:chExt cx="9144000" cy="6858000"/>
          </a:xfrm>
        </p:grpSpPr>
        <p:sp>
          <p:nvSpPr>
            <p:cNvPr id="227" name=""/>
            <p:cNvSpPr/>
            <p:nvPr/>
          </p:nvSpPr>
          <p:spPr>
            <a:xfrm>
              <a:off x="0" y="9360"/>
              <a:ext cx="9144000" cy="6858000"/>
            </a:xfrm>
            <a:prstGeom prst="rect">
              <a:avLst/>
            </a:prstGeom>
            <a:solidFill>
              <a:srgbClr val="e4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4240" y="635184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4D6E54F-D5FF-4B39-89DE-71B6E5B977CA}" type="slidenum"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228600" y="6181560"/>
              <a:ext cx="7391520" cy="166680"/>
              <a:chOff x="228600" y="6181560"/>
              <a:chExt cx="7391520" cy="166680"/>
            </a:xfrm>
          </p:grpSpPr>
          <p:sp>
            <p:nvSpPr>
              <p:cNvPr id="230" name=""/>
              <p:cNvSpPr/>
              <p:nvPr/>
            </p:nvSpPr>
            <p:spPr>
              <a:xfrm>
                <a:off x="609480" y="618156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228600" y="6181560"/>
                <a:ext cx="393840" cy="16668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>
              <a:hlinkClick r:id="rId1"/>
            </p:cNvPr>
            <p:cNvSpPr/>
            <p:nvPr/>
          </p:nvSpPr>
          <p:spPr>
            <a:xfrm>
              <a:off x="3352680" y="6410160"/>
              <a:ext cx="106704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>
              <a:hlinkClick r:id="rId2" action="ppaction://hlinksldjump"/>
            </p:cNvPr>
            <p:cNvSpPr/>
            <p:nvPr/>
          </p:nvSpPr>
          <p:spPr>
            <a:xfrm>
              <a:off x="4724280" y="6410160"/>
              <a:ext cx="91440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763120" y="656244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flipV="1">
              <a:off x="8305560" y="656208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5655"/>
                </a:solidFill>
                <a:latin typeface="Arial"/>
              </a:rPr>
              <a:t>Uncoupling Stack Elements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0" y="1447920"/>
          <a:ext cx="9144000" cy="395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47920"/>
                    <a:ext cx="9144000" cy="39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31849-A037-4083-AADC-FF2C9D687C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"/>
          <p:cNvGrpSpPr/>
          <p:nvPr/>
        </p:nvGrpSpPr>
        <p:grpSpPr>
          <a:xfrm>
            <a:off x="0" y="9360"/>
            <a:ext cx="9144000" cy="6858000"/>
            <a:chOff x="0" y="9360"/>
            <a:chExt cx="9144000" cy="6858000"/>
          </a:xfrm>
        </p:grpSpPr>
        <p:sp>
          <p:nvSpPr>
            <p:cNvPr id="240" name=""/>
            <p:cNvSpPr/>
            <p:nvPr/>
          </p:nvSpPr>
          <p:spPr>
            <a:xfrm>
              <a:off x="0" y="9360"/>
              <a:ext cx="9144000" cy="6858000"/>
            </a:xfrm>
            <a:prstGeom prst="rect">
              <a:avLst/>
            </a:prstGeom>
            <a:solidFill>
              <a:srgbClr val="e4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4240" y="635184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7AE6185-8A13-4116-8B5D-8431B33F8A02}" type="slidenum"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228600" y="6181560"/>
              <a:ext cx="7391520" cy="166680"/>
              <a:chOff x="228600" y="6181560"/>
              <a:chExt cx="7391520" cy="166680"/>
            </a:xfrm>
          </p:grpSpPr>
          <p:sp>
            <p:nvSpPr>
              <p:cNvPr id="243" name=""/>
              <p:cNvSpPr/>
              <p:nvPr/>
            </p:nvSpPr>
            <p:spPr>
              <a:xfrm>
                <a:off x="609480" y="618156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228600" y="6181560"/>
                <a:ext cx="393840" cy="16668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>
              <a:hlinkClick r:id="rId1"/>
            </p:cNvPr>
            <p:cNvSpPr/>
            <p:nvPr/>
          </p:nvSpPr>
          <p:spPr>
            <a:xfrm>
              <a:off x="3352680" y="6410160"/>
              <a:ext cx="106704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>
              <a:hlinkClick r:id="rId2" action="ppaction://hlinksldjump"/>
            </p:cNvPr>
            <p:cNvSpPr/>
            <p:nvPr/>
          </p:nvSpPr>
          <p:spPr>
            <a:xfrm>
              <a:off x="4724280" y="6410160"/>
              <a:ext cx="91440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763120" y="656244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 flipV="1">
              <a:off x="8305560" y="656208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5655"/>
                </a:solidFill>
                <a:latin typeface="Arial"/>
              </a:rPr>
              <a:t>Uncoupling Stack Elements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0" y="1447920"/>
          <a:ext cx="9144000" cy="410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47920"/>
                    <a:ext cx="9144000" cy="41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203DF-2DEF-4DE9-84BB-3EDDA8B4B4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"/>
          <p:cNvGrpSpPr/>
          <p:nvPr/>
        </p:nvGrpSpPr>
        <p:grpSpPr>
          <a:xfrm>
            <a:off x="0" y="9360"/>
            <a:ext cx="9144000" cy="6858000"/>
            <a:chOff x="0" y="9360"/>
            <a:chExt cx="9144000" cy="6858000"/>
          </a:xfrm>
        </p:grpSpPr>
        <p:sp>
          <p:nvSpPr>
            <p:cNvPr id="253" name=""/>
            <p:cNvSpPr/>
            <p:nvPr/>
          </p:nvSpPr>
          <p:spPr>
            <a:xfrm>
              <a:off x="0" y="9360"/>
              <a:ext cx="9144000" cy="6858000"/>
            </a:xfrm>
            <a:prstGeom prst="rect">
              <a:avLst/>
            </a:prstGeom>
            <a:solidFill>
              <a:srgbClr val="e4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4240" y="635184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C7928FB-985C-4F08-A92C-4360527ADA51}" type="slidenum"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228600" y="6181560"/>
              <a:ext cx="7391520" cy="166680"/>
              <a:chOff x="228600" y="6181560"/>
              <a:chExt cx="7391520" cy="166680"/>
            </a:xfrm>
          </p:grpSpPr>
          <p:sp>
            <p:nvSpPr>
              <p:cNvPr id="256" name=""/>
              <p:cNvSpPr/>
              <p:nvPr/>
            </p:nvSpPr>
            <p:spPr>
              <a:xfrm>
                <a:off x="609480" y="618156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228600" y="6181560"/>
                <a:ext cx="393840" cy="16668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>
              <a:hlinkClick r:id="rId1"/>
            </p:cNvPr>
            <p:cNvSpPr/>
            <p:nvPr/>
          </p:nvSpPr>
          <p:spPr>
            <a:xfrm>
              <a:off x="3352680" y="6410160"/>
              <a:ext cx="106704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>
              <a:hlinkClick r:id="rId2" action="ppaction://hlinksldjump"/>
            </p:cNvPr>
            <p:cNvSpPr/>
            <p:nvPr/>
          </p:nvSpPr>
          <p:spPr>
            <a:xfrm>
              <a:off x="4724280" y="6410160"/>
              <a:ext cx="91440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763120" y="656244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flipV="1">
              <a:off x="8305560" y="656208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5655"/>
                </a:solidFill>
                <a:latin typeface="Arial"/>
              </a:rPr>
              <a:t>Uncoupling Stack Elements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0" y="1828800"/>
          <a:ext cx="9144000" cy="34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828800"/>
                    <a:ext cx="9144000" cy="34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512C7-E7D4-42F0-961F-650C6ED60F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0" y="9360"/>
            <a:ext cx="9144000" cy="6858000"/>
            <a:chOff x="0" y="9360"/>
            <a:chExt cx="9144000" cy="6858000"/>
          </a:xfrm>
        </p:grpSpPr>
        <p:sp>
          <p:nvSpPr>
            <p:cNvPr id="266" name=""/>
            <p:cNvSpPr/>
            <p:nvPr/>
          </p:nvSpPr>
          <p:spPr>
            <a:xfrm>
              <a:off x="0" y="9360"/>
              <a:ext cx="9144000" cy="6858000"/>
            </a:xfrm>
            <a:prstGeom prst="rect">
              <a:avLst/>
            </a:prstGeom>
            <a:solidFill>
              <a:srgbClr val="e4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4240" y="635184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6154671-2E62-4F6C-AC91-AB8B4CD03E9A}" type="slidenum"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228600" y="6181560"/>
              <a:ext cx="7391520" cy="166680"/>
              <a:chOff x="228600" y="6181560"/>
              <a:chExt cx="7391520" cy="166680"/>
            </a:xfrm>
          </p:grpSpPr>
          <p:sp>
            <p:nvSpPr>
              <p:cNvPr id="269" name=""/>
              <p:cNvSpPr/>
              <p:nvPr/>
            </p:nvSpPr>
            <p:spPr>
              <a:xfrm>
                <a:off x="609480" y="618156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228600" y="6181560"/>
                <a:ext cx="393840" cy="16668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3352680" y="6410160"/>
              <a:ext cx="106704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>
              <a:hlinkClick r:id="rId1" action="ppaction://hlinksldjump"/>
            </p:cNvPr>
            <p:cNvSpPr/>
            <p:nvPr/>
          </p:nvSpPr>
          <p:spPr>
            <a:xfrm>
              <a:off x="4724280" y="6410160"/>
              <a:ext cx="91440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763120" y="656244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8305560" y="656208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5655"/>
                </a:solidFill>
                <a:latin typeface="Arial"/>
              </a:rPr>
              <a:t>Uncoupling Stack Elements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0" y="1219320"/>
          <a:ext cx="9144000" cy="430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19320"/>
                    <a:ext cx="914400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44ECC-8CFC-4B68-ABC6-90BADBAAA3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"/>
          <p:cNvGrpSpPr/>
          <p:nvPr/>
        </p:nvGrpSpPr>
        <p:grpSpPr>
          <a:xfrm>
            <a:off x="0" y="9360"/>
            <a:ext cx="9144000" cy="6858000"/>
            <a:chOff x="0" y="9360"/>
            <a:chExt cx="9144000" cy="6858000"/>
          </a:xfrm>
        </p:grpSpPr>
        <p:sp>
          <p:nvSpPr>
            <p:cNvPr id="279" name=""/>
            <p:cNvSpPr/>
            <p:nvPr/>
          </p:nvSpPr>
          <p:spPr>
            <a:xfrm>
              <a:off x="0" y="9360"/>
              <a:ext cx="9144000" cy="6858000"/>
            </a:xfrm>
            <a:prstGeom prst="rect">
              <a:avLst/>
            </a:prstGeom>
            <a:solidFill>
              <a:srgbClr val="e4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4240" y="635184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2D415FB-B8FB-4214-8FB6-6D4A0A47CA73}" type="slidenum"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228600" y="6181560"/>
              <a:ext cx="7391520" cy="166680"/>
              <a:chOff x="228600" y="6181560"/>
              <a:chExt cx="7391520" cy="166680"/>
            </a:xfrm>
          </p:grpSpPr>
          <p:sp>
            <p:nvSpPr>
              <p:cNvPr id="282" name=""/>
              <p:cNvSpPr/>
              <p:nvPr/>
            </p:nvSpPr>
            <p:spPr>
              <a:xfrm>
                <a:off x="609480" y="618156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228600" y="6181560"/>
                <a:ext cx="393840" cy="16668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3352680" y="6410160"/>
              <a:ext cx="106704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>
              <a:hlinkClick r:id="rId1" action="ppaction://hlinksldjump"/>
            </p:cNvPr>
            <p:cNvSpPr/>
            <p:nvPr/>
          </p:nvSpPr>
          <p:spPr>
            <a:xfrm>
              <a:off x="4724280" y="6410160"/>
              <a:ext cx="91440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763120" y="656244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8305560" y="656208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5655"/>
                </a:solidFill>
                <a:latin typeface="Arial"/>
              </a:rPr>
              <a:t>Uncoupling Stack Elements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0" y="1371600"/>
          <a:ext cx="9144000" cy="369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71600"/>
                    <a:ext cx="9144000" cy="36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7DD33-7493-4A62-92FE-189D7F293C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9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8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F4CBFEE-A51C-456A-92DB-69EBDE4ABFB3}" type="slidenum">
                <a:rPr b="1" lang="en-US" sz="2600" spc="-1" strike="noStrike">
                  <a:solidFill>
                    <a:srgbClr val="9bc3c6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295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b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b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91adc2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>
              <a:hlinkClick r:id="rId1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91adc2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22884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295280" y="76320"/>
          <a:ext cx="6629400" cy="16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76320"/>
                    <a:ext cx="66294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129528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-228600" y="1687680"/>
            <a:ext cx="9296280" cy="4255920"/>
            <a:chOff x="-228600" y="1687680"/>
            <a:chExt cx="9296280" cy="4255920"/>
          </a:xfrm>
        </p:grpSpPr>
        <p:graphicFrame>
          <p:nvGraphicFramePr>
            <p:cNvPr id="306" name=""/>
            <p:cNvGraphicFramePr/>
            <p:nvPr/>
          </p:nvGraphicFramePr>
          <p:xfrm>
            <a:off x="-228600" y="1687680"/>
            <a:ext cx="9144000" cy="21844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0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-228600" y="1687680"/>
                      <a:ext cx="9144000" cy="218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8" name=""/>
            <p:cNvGraphicFramePr/>
            <p:nvPr/>
          </p:nvGraphicFramePr>
          <p:xfrm>
            <a:off x="-76320" y="3567240"/>
            <a:ext cx="9144000" cy="2376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0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-76320" y="3567240"/>
                      <a:ext cx="9144000" cy="23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3458C-EB71-46A3-8846-B530287571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"/>
          <p:cNvGrpSpPr/>
          <p:nvPr/>
        </p:nvGrpSpPr>
        <p:grpSpPr>
          <a:xfrm>
            <a:off x="0" y="9360"/>
            <a:ext cx="9144000" cy="6858000"/>
            <a:chOff x="0" y="9360"/>
            <a:chExt cx="9144000" cy="6858000"/>
          </a:xfrm>
        </p:grpSpPr>
        <p:sp>
          <p:nvSpPr>
            <p:cNvPr id="311" name=""/>
            <p:cNvSpPr/>
            <p:nvPr/>
          </p:nvSpPr>
          <p:spPr>
            <a:xfrm>
              <a:off x="0" y="9360"/>
              <a:ext cx="9144000" cy="6858000"/>
            </a:xfrm>
            <a:prstGeom prst="rect">
              <a:avLst/>
            </a:prstGeom>
            <a:solidFill>
              <a:srgbClr val="e4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240" y="635184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C095253-98E9-4763-911F-49B6A4AFFC12}" type="slidenum"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228600" y="6181560"/>
              <a:ext cx="7391520" cy="166680"/>
              <a:chOff x="228600" y="6181560"/>
              <a:chExt cx="7391520" cy="166680"/>
            </a:xfrm>
          </p:grpSpPr>
          <p:sp>
            <p:nvSpPr>
              <p:cNvPr id="314" name=""/>
              <p:cNvSpPr/>
              <p:nvPr/>
            </p:nvSpPr>
            <p:spPr>
              <a:xfrm>
                <a:off x="609480" y="618156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228600" y="6181560"/>
                <a:ext cx="393840" cy="16668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>
              <a:off x="3352680" y="6410160"/>
              <a:ext cx="106704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>
              <a:hlinkClick r:id="rId1" action="ppaction://hlinksldjump"/>
            </p:cNvPr>
            <p:cNvSpPr/>
            <p:nvPr/>
          </p:nvSpPr>
          <p:spPr>
            <a:xfrm>
              <a:off x="4724280" y="6410160"/>
              <a:ext cx="91440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763120" y="656244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8305560" y="656208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20" name=""/>
          <p:cNvGraphicFramePr/>
          <p:nvPr/>
        </p:nvGraphicFramePr>
        <p:xfrm>
          <a:off x="325440" y="-58680"/>
          <a:ext cx="8799480" cy="630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5440" y="-58680"/>
                    <a:ext cx="8799480" cy="63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AE6CC-8E81-4327-8FAF-4E3D519902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2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8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4DFBB34-AE8C-4102-A56F-5E9F893B6834}" type="slidenum">
                <a:rPr b="1" lang="en-US" sz="2600" spc="-1" strike="noStrike">
                  <a:solidFill>
                    <a:srgbClr val="9bc3c6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326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b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b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91adc2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>
              <a:hlinkClick r:id="rId1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91adc2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3240" y="11160"/>
            <a:ext cx="914400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fix Expression Rul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igure below gives input precedence, stack precedence, and rank used for the operators +, -, *, /, %, and ^, along with the parentheses. Except for the exponential operator ^, the other binary operators are left-associative and have equal input and stack precede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1133640" y="2606760"/>
            <a:ext cx="6638760" cy="3565440"/>
            <a:chOff x="1133640" y="2606760"/>
            <a:chExt cx="6638760" cy="3565440"/>
          </a:xfrm>
        </p:grpSpPr>
        <p:grpSp>
          <p:nvGrpSpPr>
            <p:cNvPr id="334" name=""/>
            <p:cNvGrpSpPr/>
            <p:nvPr/>
          </p:nvGrpSpPr>
          <p:grpSpPr>
            <a:xfrm>
              <a:off x="1138320" y="2609640"/>
              <a:ext cx="6629400" cy="3558960"/>
              <a:chOff x="1138320" y="2609640"/>
              <a:chExt cx="6629400" cy="355896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1138320" y="2609640"/>
                <a:ext cx="6629400" cy="484200"/>
                <a:chOff x="1138320" y="2609640"/>
                <a:chExt cx="6629400" cy="48420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1206720" y="2609640"/>
                  <a:ext cx="6492600" cy="48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ecedence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138320" y="2609640"/>
                  <a:ext cx="6629400" cy="48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1138320" y="3093840"/>
                <a:ext cx="1657440" cy="653040"/>
                <a:chOff x="1138320" y="3093840"/>
                <a:chExt cx="1657440" cy="65304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1206720" y="3093840"/>
                  <a:ext cx="1520640" cy="65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ymbo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138320" y="3093840"/>
                  <a:ext cx="1657440" cy="65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2795760" y="3093840"/>
                <a:ext cx="1657440" cy="653040"/>
                <a:chOff x="2795760" y="3093840"/>
                <a:chExt cx="1657440" cy="65304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2863800" y="3093840"/>
                  <a:ext cx="1521000" cy="65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nput precedenc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2795760" y="3093840"/>
                  <a:ext cx="1657440" cy="65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4453200" y="3093840"/>
                <a:ext cx="1657080" cy="653040"/>
                <a:chOff x="4453200" y="3093840"/>
                <a:chExt cx="1657080" cy="65304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4521240" y="3093840"/>
                  <a:ext cx="1521000" cy="65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tack precedenc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4453200" y="3093840"/>
                  <a:ext cx="1657080" cy="65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6110280" y="3093840"/>
                <a:ext cx="1657440" cy="653040"/>
                <a:chOff x="6110280" y="3093840"/>
                <a:chExt cx="1657440" cy="65304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6178680" y="3093840"/>
                  <a:ext cx="1520640" cy="65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ank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110280" y="3093840"/>
                  <a:ext cx="1657440" cy="65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1138320" y="3746880"/>
                <a:ext cx="1657440" cy="484200"/>
                <a:chOff x="1138320" y="3746880"/>
                <a:chExt cx="1657440" cy="48420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1206720" y="3746880"/>
                  <a:ext cx="1520640" cy="48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+  -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138320" y="3746880"/>
                  <a:ext cx="1657440" cy="48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2795760" y="3746880"/>
                <a:ext cx="1657440" cy="484200"/>
                <a:chOff x="2795760" y="3746880"/>
                <a:chExt cx="1657440" cy="48420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2863800" y="3746880"/>
                  <a:ext cx="1521000" cy="48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795760" y="3746880"/>
                  <a:ext cx="1657440" cy="48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4453200" y="3746880"/>
                <a:ext cx="1657080" cy="484200"/>
                <a:chOff x="4453200" y="3746880"/>
                <a:chExt cx="1657080" cy="48420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4521240" y="3746880"/>
                  <a:ext cx="1521000" cy="48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4453200" y="3746880"/>
                  <a:ext cx="1657080" cy="48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6110280" y="3746880"/>
                <a:ext cx="1657440" cy="484200"/>
                <a:chOff x="6110280" y="3746880"/>
                <a:chExt cx="1657440" cy="48420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6178680" y="3746880"/>
                  <a:ext cx="1520640" cy="48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110280" y="3746880"/>
                  <a:ext cx="1657440" cy="48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1138320" y="4231440"/>
                <a:ext cx="1657440" cy="484200"/>
                <a:chOff x="1138320" y="4231440"/>
                <a:chExt cx="1657440" cy="48420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1206720" y="4231440"/>
                  <a:ext cx="1520640" cy="48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*  /  %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138320" y="4231440"/>
                  <a:ext cx="1657440" cy="48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2795760" y="4231440"/>
                <a:ext cx="1657440" cy="484200"/>
                <a:chOff x="2795760" y="4231440"/>
                <a:chExt cx="1657440" cy="48420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2863800" y="4231440"/>
                  <a:ext cx="1521000" cy="48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2795760" y="4231440"/>
                  <a:ext cx="1657440" cy="48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4453200" y="4231440"/>
                <a:ext cx="1657080" cy="484200"/>
                <a:chOff x="4453200" y="4231440"/>
                <a:chExt cx="1657080" cy="48420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4521240" y="4231440"/>
                  <a:ext cx="1521000" cy="48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4453200" y="4231440"/>
                  <a:ext cx="1657080" cy="48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6110280" y="4231440"/>
                <a:ext cx="1657440" cy="484200"/>
                <a:chOff x="6110280" y="4231440"/>
                <a:chExt cx="1657440" cy="48420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6178680" y="4231440"/>
                  <a:ext cx="1520640" cy="48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6110280" y="4231440"/>
                  <a:ext cx="1657440" cy="48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1138320" y="4715640"/>
                <a:ext cx="1657440" cy="484200"/>
                <a:chOff x="1138320" y="4715640"/>
                <a:chExt cx="1657440" cy="48420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1206720" y="4715640"/>
                  <a:ext cx="1520640" cy="48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^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138320" y="4715640"/>
                  <a:ext cx="1657440" cy="48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2795760" y="4715640"/>
                <a:ext cx="1657440" cy="484200"/>
                <a:chOff x="2795760" y="4715640"/>
                <a:chExt cx="1657440" cy="48420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2863800" y="4715640"/>
                  <a:ext cx="1521000" cy="48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2795760" y="4715640"/>
                  <a:ext cx="1657440" cy="48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4453200" y="4715640"/>
                <a:ext cx="1657080" cy="484200"/>
                <a:chOff x="4453200" y="4715640"/>
                <a:chExt cx="1657080" cy="48420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4521240" y="4715640"/>
                  <a:ext cx="1521000" cy="48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4453200" y="4715640"/>
                  <a:ext cx="1657080" cy="48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6110280" y="4715640"/>
                <a:ext cx="1657440" cy="484200"/>
                <a:chOff x="6110280" y="4715640"/>
                <a:chExt cx="1657440" cy="48420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6178680" y="4715640"/>
                  <a:ext cx="1520640" cy="48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6110280" y="4715640"/>
                  <a:ext cx="1657440" cy="48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1138320" y="5199840"/>
                <a:ext cx="1657440" cy="484200"/>
                <a:chOff x="1138320" y="5199840"/>
                <a:chExt cx="1657440" cy="48420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1206720" y="5199840"/>
                  <a:ext cx="1520640" cy="48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138320" y="5199840"/>
                  <a:ext cx="1657440" cy="48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2795760" y="5199840"/>
                <a:ext cx="1657440" cy="484200"/>
                <a:chOff x="2795760" y="5199840"/>
                <a:chExt cx="1657440" cy="48420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2863800" y="5199840"/>
                  <a:ext cx="1521000" cy="48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795760" y="5199840"/>
                  <a:ext cx="1657440" cy="48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4453200" y="5199840"/>
                <a:ext cx="1657080" cy="484200"/>
                <a:chOff x="4453200" y="5199840"/>
                <a:chExt cx="1657080" cy="48420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4521240" y="5199840"/>
                  <a:ext cx="1521000" cy="48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4453200" y="5199840"/>
                  <a:ext cx="1657080" cy="48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6110280" y="5199840"/>
                <a:ext cx="1657440" cy="484200"/>
                <a:chOff x="6110280" y="5199840"/>
                <a:chExt cx="1657440" cy="48420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6178680" y="5199840"/>
                  <a:ext cx="1520640" cy="48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6110280" y="5199840"/>
                  <a:ext cx="1657440" cy="48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1138320" y="5684400"/>
                <a:ext cx="1657440" cy="484200"/>
                <a:chOff x="1138320" y="5684400"/>
                <a:chExt cx="1657440" cy="48420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1206720" y="5684400"/>
                  <a:ext cx="1520640" cy="48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)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1138320" y="5684400"/>
                  <a:ext cx="1657440" cy="48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2795760" y="5684400"/>
                <a:ext cx="1657440" cy="484200"/>
                <a:chOff x="2795760" y="5684400"/>
                <a:chExt cx="1657440" cy="48420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2863800" y="5684400"/>
                  <a:ext cx="1521000" cy="48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795760" y="5684400"/>
                  <a:ext cx="1657440" cy="48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4453200" y="5684400"/>
                <a:ext cx="1657080" cy="484200"/>
                <a:chOff x="4453200" y="5684400"/>
                <a:chExt cx="1657080" cy="48420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4521240" y="5684400"/>
                  <a:ext cx="1521000" cy="48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4453200" y="5684400"/>
                  <a:ext cx="1657080" cy="48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6110280" y="5684400"/>
                <a:ext cx="1657440" cy="484200"/>
                <a:chOff x="6110280" y="5684400"/>
                <a:chExt cx="1657440" cy="48420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6178680" y="5684400"/>
                  <a:ext cx="1520640" cy="48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6110280" y="5684400"/>
                  <a:ext cx="1657440" cy="48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0" name=""/>
            <p:cNvSpPr/>
            <p:nvPr/>
          </p:nvSpPr>
          <p:spPr>
            <a:xfrm>
              <a:off x="1133640" y="2606760"/>
              <a:ext cx="6638760" cy="35654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3E9AA-4A7D-421D-9242-55CC261B8F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0" y="9360"/>
            <a:ext cx="9144000" cy="6858000"/>
            <a:chOff x="0" y="9360"/>
            <a:chExt cx="9144000" cy="6858000"/>
          </a:xfrm>
        </p:grpSpPr>
        <p:sp>
          <p:nvSpPr>
            <p:cNvPr id="412" name=""/>
            <p:cNvSpPr/>
            <p:nvPr/>
          </p:nvSpPr>
          <p:spPr>
            <a:xfrm>
              <a:off x="0" y="9360"/>
              <a:ext cx="9144000" cy="6858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4240" y="635184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94575DB-47C6-4E2B-865E-CF723DD3CC53}" type="slidenum"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228600" y="6181560"/>
              <a:ext cx="7391520" cy="166680"/>
              <a:chOff x="228600" y="6181560"/>
              <a:chExt cx="7391520" cy="166680"/>
            </a:xfrm>
          </p:grpSpPr>
          <p:sp>
            <p:nvSpPr>
              <p:cNvPr id="415" name=""/>
              <p:cNvSpPr/>
              <p:nvPr/>
            </p:nvSpPr>
            <p:spPr>
              <a:xfrm>
                <a:off x="609480" y="618156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228600" y="6181560"/>
                <a:ext cx="393840" cy="166680"/>
              </a:xfrm>
              <a:prstGeom prst="flowChartDelay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7" name=""/>
            <p:cNvSpPr/>
            <p:nvPr/>
          </p:nvSpPr>
          <p:spPr>
            <a:xfrm>
              <a:off x="3352680" y="6410160"/>
              <a:ext cx="1067040" cy="30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>
              <a:hlinkClick r:id="rId1" action="ppaction://hlinksldjump"/>
            </p:cNvPr>
            <p:cNvSpPr/>
            <p:nvPr/>
          </p:nvSpPr>
          <p:spPr>
            <a:xfrm>
              <a:off x="4724280" y="6410160"/>
              <a:ext cx="914400" cy="30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763120" y="6562440"/>
              <a:ext cx="152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 flipV="1">
              <a:off x="8305560" y="6562080"/>
              <a:ext cx="152280" cy="18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ummary Slide 1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62120" y="3124080"/>
            <a:ext cx="1218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838080"/>
            <a:ext cx="9144000" cy="28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§-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c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rage Structure with insert (push) and erase (pop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rations occur at one end, called the top of 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ast element in is the first element out of 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ck, so a stack is a LIFO stru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1549D-29F9-4E8E-A205-CE631DCB97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"/>
          <p:cNvGrpSpPr/>
          <p:nvPr/>
        </p:nvGrpSpPr>
        <p:grpSpPr>
          <a:xfrm>
            <a:off x="0" y="9360"/>
            <a:ext cx="9144000" cy="6858000"/>
            <a:chOff x="0" y="9360"/>
            <a:chExt cx="9144000" cy="6858000"/>
          </a:xfrm>
        </p:grpSpPr>
        <p:sp>
          <p:nvSpPr>
            <p:cNvPr id="425" name=""/>
            <p:cNvSpPr/>
            <p:nvPr/>
          </p:nvSpPr>
          <p:spPr>
            <a:xfrm>
              <a:off x="0" y="9360"/>
              <a:ext cx="9144000" cy="6858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4240" y="635184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5C6995E-0D3D-4D46-8A65-F70A40F853A5}" type="slidenum"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228600" y="6181560"/>
              <a:ext cx="7391520" cy="166680"/>
              <a:chOff x="228600" y="6181560"/>
              <a:chExt cx="7391520" cy="166680"/>
            </a:xfrm>
          </p:grpSpPr>
          <p:sp>
            <p:nvSpPr>
              <p:cNvPr id="428" name=""/>
              <p:cNvSpPr/>
              <p:nvPr/>
            </p:nvSpPr>
            <p:spPr>
              <a:xfrm>
                <a:off x="609480" y="618156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228600" y="6181560"/>
                <a:ext cx="393840" cy="166680"/>
              </a:xfrm>
              <a:prstGeom prst="flowChartDelay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3352680" y="6410160"/>
              <a:ext cx="1067040" cy="30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>
              <a:hlinkClick r:id="rId1" action="ppaction://hlinksldjump"/>
            </p:cNvPr>
            <p:cNvSpPr/>
            <p:nvPr/>
          </p:nvSpPr>
          <p:spPr>
            <a:xfrm>
              <a:off x="4724280" y="6410160"/>
              <a:ext cx="914400" cy="30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763120" y="6562440"/>
              <a:ext cx="152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 flipV="1">
              <a:off x="8305560" y="6562080"/>
              <a:ext cx="152280" cy="18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ummary Slide 2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62120" y="3124080"/>
            <a:ext cx="1218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838080"/>
            <a:ext cx="9144000" cy="40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76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§-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cur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ystem maintains a stack of activation record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specif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unction arg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ocal variables/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turn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ystem pushes an activation record whe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ing a function and pops it when retur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46975-D0F6-4E63-8E03-BAE439D6281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9997"/>
                </a:solidFill>
                <a:latin typeface="Arial"/>
              </a:rPr>
              <a:t>Stacks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ck is a sequence of items that are accessible at only one end of the seque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62120" y="2060640"/>
            <a:ext cx="8381880" cy="399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8590F-724F-4655-87CD-769992381C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"/>
          <p:cNvGrpSpPr/>
          <p:nvPr/>
        </p:nvGrpSpPr>
        <p:grpSpPr>
          <a:xfrm>
            <a:off x="0" y="9360"/>
            <a:ext cx="9144000" cy="6858000"/>
            <a:chOff x="0" y="9360"/>
            <a:chExt cx="9144000" cy="6858000"/>
          </a:xfrm>
        </p:grpSpPr>
        <p:sp>
          <p:nvSpPr>
            <p:cNvPr id="438" name=""/>
            <p:cNvSpPr/>
            <p:nvPr/>
          </p:nvSpPr>
          <p:spPr>
            <a:xfrm>
              <a:off x="0" y="9360"/>
              <a:ext cx="9144000" cy="6858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240" y="635184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48502E3-99DF-4D82-9B2A-28D4D601F275}" type="slidenum"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228600" y="6181560"/>
              <a:ext cx="7391520" cy="166680"/>
              <a:chOff x="228600" y="6181560"/>
              <a:chExt cx="7391520" cy="166680"/>
            </a:xfrm>
          </p:grpSpPr>
          <p:sp>
            <p:nvSpPr>
              <p:cNvPr id="441" name=""/>
              <p:cNvSpPr/>
              <p:nvPr/>
            </p:nvSpPr>
            <p:spPr>
              <a:xfrm>
                <a:off x="609480" y="618156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>
                <a:off x="228600" y="6181560"/>
                <a:ext cx="393840" cy="166680"/>
              </a:xfrm>
              <a:prstGeom prst="flowChartDelay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3" name=""/>
            <p:cNvSpPr/>
            <p:nvPr/>
          </p:nvSpPr>
          <p:spPr>
            <a:xfrm>
              <a:off x="3352680" y="6410160"/>
              <a:ext cx="1067040" cy="30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>
              <a:hlinkClick r:id="rId1" action="ppaction://hlinksldjump"/>
            </p:cNvPr>
            <p:cNvSpPr/>
            <p:nvPr/>
          </p:nvSpPr>
          <p:spPr>
            <a:xfrm>
              <a:off x="4724280" y="6410160"/>
              <a:ext cx="914400" cy="30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763120" y="6562440"/>
              <a:ext cx="152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 flipV="1">
              <a:off x="8305560" y="6562080"/>
              <a:ext cx="152280" cy="18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ummary Slide 3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62120" y="3124080"/>
            <a:ext cx="1218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838080"/>
            <a:ext cx="9144000" cy="47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76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§-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stfix/RPN Expression No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s the operator after its oper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 to evaluate using a single stack to hol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rand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mediately push an operand onto the sta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a binary operator, pop the stack twice, perform th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ration, and push the result onto the sta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the end a single value remains on the stack. This i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alue of the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2B94F-2059-43D6-9FFC-2CB9A78F10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"/>
          <p:cNvGrpSpPr/>
          <p:nvPr/>
        </p:nvGrpSpPr>
        <p:grpSpPr>
          <a:xfrm>
            <a:off x="0" y="9360"/>
            <a:ext cx="9144000" cy="6858000"/>
            <a:chOff x="0" y="9360"/>
            <a:chExt cx="9144000" cy="6858000"/>
          </a:xfrm>
        </p:grpSpPr>
        <p:sp>
          <p:nvSpPr>
            <p:cNvPr id="451" name=""/>
            <p:cNvSpPr/>
            <p:nvPr/>
          </p:nvSpPr>
          <p:spPr>
            <a:xfrm>
              <a:off x="0" y="9360"/>
              <a:ext cx="9144000" cy="6858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4240" y="635184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C2D0C17-C1E8-4FC0-A4CB-D94CCFF0C160}" type="slidenum"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228600" y="6181560"/>
              <a:ext cx="7391520" cy="166680"/>
              <a:chOff x="228600" y="6181560"/>
              <a:chExt cx="7391520" cy="166680"/>
            </a:xfrm>
          </p:grpSpPr>
          <p:sp>
            <p:nvSpPr>
              <p:cNvPr id="454" name=""/>
              <p:cNvSpPr/>
              <p:nvPr/>
            </p:nvSpPr>
            <p:spPr>
              <a:xfrm>
                <a:off x="609480" y="618156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228600" y="6181560"/>
                <a:ext cx="393840" cy="166680"/>
              </a:xfrm>
              <a:prstGeom prst="flowChartDelay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3352680" y="6410160"/>
              <a:ext cx="1067040" cy="30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>
              <a:hlinkClick r:id="rId1" action="ppaction://hlinksldjump"/>
            </p:cNvPr>
            <p:cNvSpPr/>
            <p:nvPr/>
          </p:nvSpPr>
          <p:spPr>
            <a:xfrm>
              <a:off x="4724280" y="6410160"/>
              <a:ext cx="914400" cy="30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763120" y="6562440"/>
              <a:ext cx="152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 flipV="1">
              <a:off x="8305560" y="6562080"/>
              <a:ext cx="152280" cy="18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ummary Slide 4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62120" y="3124080"/>
            <a:ext cx="1218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838080"/>
            <a:ext cx="9144000" cy="29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76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§-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fix no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inary operator appears between its opera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complex than postfix, because it requires 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of operator precedence and parenthe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349200"/>
                <a:tab algn="l" pos="698400"/>
                <a:tab algn="l" pos="1047600"/>
                <a:tab algn="l" pos="1397160"/>
                <a:tab algn="l" pos="1746360"/>
                <a:tab algn="l" pos="2095560"/>
                <a:tab algn="l" pos="2444760"/>
                <a:tab algn="l" pos="2793960"/>
                <a:tab algn="l" pos="3143160"/>
                <a:tab algn="l" pos="3492360"/>
                <a:tab algn="l" pos="3841920"/>
                <a:tab algn="l" pos="4191120"/>
                <a:tab algn="l" pos="4540320"/>
                <a:tab algn="l" pos="4889520"/>
                <a:tab algn="l" pos="5238720"/>
                <a:tab algn="l" pos="5587920"/>
                <a:tab algn="l" pos="5937120"/>
                <a:tab algn="l" pos="6286680"/>
                <a:tab algn="l" pos="6635880"/>
                <a:tab algn="l" pos="6985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ddition, some operators are left-associative, 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few are right-associa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A0F37-BC36-4372-9F90-38D6005132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4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074B7B5-CB9F-4D78-8CCD-F84B42A37F0D}" type="slidenum"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124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>
              <a:hlinkClick r:id="rId1"/>
            </p:cNvPr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>
              <a:hlinkClick r:id="rId2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4443"/>
                </a:solidFill>
                <a:latin typeface="Arial"/>
              </a:rPr>
              <a:t>Further Stack Examples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0" y="685800"/>
            <a:ext cx="9144000" cy="5475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9AF47-3562-4AE0-A87C-FE12ADBFD7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9997"/>
                </a:solidFill>
                <a:latin typeface="Arial"/>
              </a:rPr>
              <a:t>Pushing/Popping a Stack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62120" y="3200400"/>
            <a:ext cx="8381880" cy="2781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914400" y="762120"/>
            <a:ext cx="80010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a pop removes the item last added to the stack, we say that a stack has LIFO (last-in/first-out) ord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4F86F-ABCE-4C5D-A5F1-0A093708EA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4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4274C7D-D1BA-4492-AACC-E409DE4D958B}" type="slidenum"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139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>
              <a:hlinkClick r:id="rId1"/>
            </p:cNvPr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>
              <a:hlinkClick r:id="rId2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0" y="0"/>
            <a:ext cx="9144000" cy="2209680"/>
            <a:chOff x="0" y="0"/>
            <a:chExt cx="9144000" cy="2209680"/>
          </a:xfrm>
        </p:grpSpPr>
        <p:sp>
          <p:nvSpPr>
            <p:cNvPr id="146" name=""/>
            <p:cNvSpPr/>
            <p:nvPr/>
          </p:nvSpPr>
          <p:spPr>
            <a:xfrm>
              <a:off x="0" y="0"/>
              <a:ext cx="9144000" cy="2209680"/>
            </a:xfrm>
            <a:prstGeom prst="rect">
              <a:avLst/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0" y="0"/>
              <a:ext cx="9143640" cy="921960"/>
              <a:chOff x="0" y="0"/>
              <a:chExt cx="9143640" cy="921960"/>
            </a:xfrm>
          </p:grpSpPr>
          <p:sp>
            <p:nvSpPr>
              <p:cNvPr id="148" name=""/>
              <p:cNvSpPr/>
              <p:nvPr/>
            </p:nvSpPr>
            <p:spPr>
              <a:xfrm>
                <a:off x="0" y="0"/>
                <a:ext cx="9143640" cy="92196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0" y="115920"/>
                <a:ext cx="7053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LASS stac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393200" y="118800"/>
                <a:ext cx="766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onstru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562360" y="115920"/>
                <a:ext cx="3581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&lt;stack&gt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0" y="1152360"/>
              <a:ext cx="914400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Arial"/>
                  <a:ea typeface="Times New Roman"/>
                </a:rPr>
                <a:t>stack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)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reate an empty stack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0" y="2133720"/>
            <a:ext cx="9144000" cy="4038480"/>
            <a:chOff x="0" y="2133720"/>
            <a:chExt cx="9144000" cy="4038480"/>
          </a:xfrm>
        </p:grpSpPr>
        <p:sp>
          <p:nvSpPr>
            <p:cNvPr id="154" name=""/>
            <p:cNvSpPr/>
            <p:nvPr/>
          </p:nvSpPr>
          <p:spPr>
            <a:xfrm>
              <a:off x="0" y="2133720"/>
              <a:ext cx="9144000" cy="4038480"/>
            </a:xfrm>
            <a:prstGeom prst="rect">
              <a:avLst/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0" y="2133720"/>
              <a:ext cx="9143640" cy="921960"/>
              <a:chOff x="0" y="2133720"/>
              <a:chExt cx="9143640" cy="921960"/>
            </a:xfrm>
          </p:grpSpPr>
          <p:sp>
            <p:nvSpPr>
              <p:cNvPr id="156" name=""/>
              <p:cNvSpPr/>
              <p:nvPr/>
            </p:nvSpPr>
            <p:spPr>
              <a:xfrm>
                <a:off x="0" y="2133720"/>
                <a:ext cx="9143640" cy="92196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2249640"/>
                <a:ext cx="7053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LASS stac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393200" y="2252520"/>
                <a:ext cx="766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Operation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562360" y="2249640"/>
                <a:ext cx="3581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&lt;stack&gt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0" y="3286080"/>
              <a:ext cx="9144000" cy="12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ool</a:t>
              </a:r>
              <a:r>
                <a:rPr b="1" lang="en-US" sz="2800" spc="-1" strike="noStrike">
                  <a:solidFill>
                    <a:srgbClr val="3366ff"/>
                  </a:solidFill>
                  <a:latin typeface="Arial"/>
                  <a:ea typeface="Times New Roman"/>
                </a:rPr>
                <a:t> empty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); cons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eck whether the stack is empty. Return true if it is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mpty and false otherwise.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B8B87-DB7C-4442-96D4-00C724F0A4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4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057D719-24A7-4179-81D0-882780CFB4EA}" type="slidenum"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165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>
              <a:hlinkClick r:id="rId1"/>
            </p:cNvPr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>
              <a:hlinkClick r:id="rId2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0" y="0"/>
            <a:ext cx="9144000" cy="6172200"/>
            <a:chOff x="0" y="0"/>
            <a:chExt cx="9144000" cy="6172200"/>
          </a:xfrm>
        </p:grpSpPr>
        <p:sp>
          <p:nvSpPr>
            <p:cNvPr id="172" name=""/>
            <p:cNvSpPr/>
            <p:nvPr/>
          </p:nvSpPr>
          <p:spPr>
            <a:xfrm>
              <a:off x="0" y="0"/>
              <a:ext cx="9144000" cy="6172200"/>
            </a:xfrm>
            <a:prstGeom prst="rect">
              <a:avLst/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0" y="0"/>
              <a:ext cx="9143640" cy="921960"/>
              <a:chOff x="0" y="0"/>
              <a:chExt cx="9143640" cy="921960"/>
            </a:xfrm>
          </p:grpSpPr>
          <p:sp>
            <p:nvSpPr>
              <p:cNvPr id="174" name=""/>
              <p:cNvSpPr/>
              <p:nvPr/>
            </p:nvSpPr>
            <p:spPr>
              <a:xfrm>
                <a:off x="0" y="0"/>
                <a:ext cx="9143640" cy="92196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115920"/>
                <a:ext cx="7053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LASS stac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393200" y="118800"/>
                <a:ext cx="766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Operation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562360" y="115920"/>
                <a:ext cx="3581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&lt;stack&gt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0" y="1152360"/>
              <a:ext cx="9144000" cy="21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oid </a:t>
              </a:r>
              <a:r>
                <a:rPr b="1" lang="en-US" sz="2800" spc="-1" strike="noStrike">
                  <a:solidFill>
                    <a:srgbClr val="3366ff"/>
                  </a:solidFill>
                  <a:latin typeface="Arial"/>
                  <a:ea typeface="Times New Roman"/>
                </a:rPr>
                <a:t>pop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)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move the item from the top of the stack.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econdition: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stack is not empty.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ostcondition: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ither the stack is empty or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stack has a new topmost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tem from a previous push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0" y="3429000"/>
              <a:ext cx="9144000" cy="152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oid </a:t>
              </a:r>
              <a:r>
                <a:rPr b="1" lang="en-US" sz="2800" spc="-1" strike="noStrike">
                  <a:solidFill>
                    <a:srgbClr val="3366ff"/>
                  </a:solidFill>
                  <a:latin typeface="Arial"/>
                  <a:ea typeface="Times New Roman"/>
                </a:rPr>
                <a:t>push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const T&amp; item)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sert the argument item at the top of the stack.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ostcondition: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stack has a new item at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top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2B5E1-94F9-470E-B39D-99A42951EE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4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E33309C-1CE6-49C5-AF6C-732FF3DBFFC0}" type="slidenum"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184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" name="">
              <a:hlinkClick r:id="rId1"/>
            </p:cNvPr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>
              <a:hlinkClick r:id="rId2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0" y="0"/>
            <a:ext cx="9144000" cy="6172200"/>
            <a:chOff x="0" y="0"/>
            <a:chExt cx="9144000" cy="6172200"/>
          </a:xfrm>
        </p:grpSpPr>
        <p:sp>
          <p:nvSpPr>
            <p:cNvPr id="191" name=""/>
            <p:cNvSpPr/>
            <p:nvPr/>
          </p:nvSpPr>
          <p:spPr>
            <a:xfrm>
              <a:off x="0" y="0"/>
              <a:ext cx="9144000" cy="6172200"/>
            </a:xfrm>
            <a:prstGeom prst="rect">
              <a:avLst/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0" y="0"/>
              <a:ext cx="9143640" cy="921960"/>
              <a:chOff x="0" y="0"/>
              <a:chExt cx="9143640" cy="921960"/>
            </a:xfrm>
          </p:grpSpPr>
          <p:sp>
            <p:nvSpPr>
              <p:cNvPr id="193" name=""/>
              <p:cNvSpPr/>
              <p:nvPr/>
            </p:nvSpPr>
            <p:spPr>
              <a:xfrm>
                <a:off x="0" y="0"/>
                <a:ext cx="9143640" cy="92196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115920"/>
                <a:ext cx="7053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LASS stac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393200" y="118800"/>
                <a:ext cx="766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Operation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562360" y="115920"/>
                <a:ext cx="3581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&lt;stack&gt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0" y="1152360"/>
              <a:ext cx="914400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t </a:t>
              </a:r>
              <a:r>
                <a:rPr b="1" lang="en-US" sz="2800" spc="-1" strike="noStrike">
                  <a:solidFill>
                    <a:srgbClr val="3366ff"/>
                  </a:solidFill>
                  <a:latin typeface="Arial"/>
                  <a:ea typeface="Times New Roman"/>
                </a:rPr>
                <a:t>size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) const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turn the number of items on the stack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2133720"/>
              <a:ext cx="9144000" cy="16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&amp; </a:t>
              </a:r>
              <a:r>
                <a:rPr b="1" lang="en-US" sz="2800" spc="-1" strike="noStrike">
                  <a:solidFill>
                    <a:srgbClr val="3366ff"/>
                  </a:solidFill>
                  <a:latin typeface="Arial"/>
                  <a:ea typeface="Times New Roman"/>
                </a:rPr>
                <a:t>top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) const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turn a reference to the value of the item at the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op of the stack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econdition: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stack is not empty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3809880"/>
              <a:ext cx="914400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nst T&amp; </a:t>
              </a:r>
              <a:r>
                <a:rPr b="1" lang="en-US" sz="2800" spc="-1" strike="noStrike">
                  <a:solidFill>
                    <a:srgbClr val="3366ff"/>
                  </a:solidFill>
                  <a:latin typeface="Arial"/>
                  <a:ea typeface="Times New Roman"/>
                </a:rPr>
                <a:t>top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) const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225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nstant version of top()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C85BA-EF7A-44CE-BCEB-2FBC22659C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e8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240" y="634248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A75D54D-F61D-4A61-94B5-093830974321}" type="slidenum">
                <a:rPr b="1" lang="en-US" sz="2600" spc="-1" strike="noStrike">
                  <a:solidFill>
                    <a:srgbClr val="9bc3c6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228600" y="6172200"/>
              <a:ext cx="7391520" cy="166680"/>
              <a:chOff x="228600" y="6172200"/>
              <a:chExt cx="7391520" cy="166680"/>
            </a:xfrm>
          </p:grpSpPr>
          <p:sp>
            <p:nvSpPr>
              <p:cNvPr id="204" name=""/>
              <p:cNvSpPr/>
              <p:nvPr/>
            </p:nvSpPr>
            <p:spPr>
              <a:xfrm>
                <a:off x="609480" y="617220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b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228600" y="6172200"/>
                <a:ext cx="393840" cy="166680"/>
              </a:xfrm>
              <a:prstGeom prst="flowChartDelay">
                <a:avLst/>
              </a:prstGeom>
              <a:solidFill>
                <a:srgbClr val="9bc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>
              <a:hlinkClick r:id="rId1"/>
            </p:cNvPr>
            <p:cNvSpPr/>
            <p:nvPr/>
          </p:nvSpPr>
          <p:spPr>
            <a:xfrm>
              <a:off x="3352680" y="6400800"/>
              <a:ext cx="1067040" cy="307080"/>
            </a:xfrm>
            <a:prstGeom prst="rect">
              <a:avLst/>
            </a:prstGeom>
            <a:solidFill>
              <a:srgbClr val="91adc2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>
              <a:hlinkClick r:id="rId2" action="ppaction://hlinksldjump"/>
            </p:cNvPr>
            <p:cNvSpPr/>
            <p:nvPr/>
          </p:nvSpPr>
          <p:spPr>
            <a:xfrm>
              <a:off x="4724280" y="6400800"/>
              <a:ext cx="914400" cy="307080"/>
            </a:xfrm>
            <a:prstGeom prst="rect">
              <a:avLst/>
            </a:prstGeom>
            <a:solidFill>
              <a:srgbClr val="91adc2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763120" y="655308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8305560" y="655272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9997"/>
                </a:solidFill>
                <a:latin typeface="Arial"/>
              </a:rPr>
              <a:t>Using a Stack to Create a Hex Number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0" y="1752480"/>
          <a:ext cx="9144000" cy="262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52480"/>
                    <a:ext cx="9144000" cy="26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D3475-947A-4754-A8BC-B8D74BDDAC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0" y="76320"/>
            <a:ext cx="9144000" cy="6858000"/>
            <a:chOff x="0" y="76320"/>
            <a:chExt cx="9144000" cy="6858000"/>
          </a:xfrm>
        </p:grpSpPr>
        <p:sp>
          <p:nvSpPr>
            <p:cNvPr id="214" name=""/>
            <p:cNvSpPr/>
            <p:nvPr/>
          </p:nvSpPr>
          <p:spPr>
            <a:xfrm>
              <a:off x="0" y="76320"/>
              <a:ext cx="9144000" cy="6858000"/>
            </a:xfrm>
            <a:prstGeom prst="rect">
              <a:avLst/>
            </a:prstGeom>
            <a:solidFill>
              <a:srgbClr val="e4f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4240" y="6418800"/>
              <a:ext cx="587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26CF70F-6847-40F8-BA4B-C619DB18D6EA}" type="slidenum"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228600" y="6248520"/>
              <a:ext cx="7391520" cy="166680"/>
              <a:chOff x="228600" y="6248520"/>
              <a:chExt cx="7391520" cy="166680"/>
            </a:xfrm>
          </p:grpSpPr>
          <p:sp>
            <p:nvSpPr>
              <p:cNvPr id="217" name=""/>
              <p:cNvSpPr/>
              <p:nvPr/>
            </p:nvSpPr>
            <p:spPr>
              <a:xfrm>
                <a:off x="609480" y="6248520"/>
                <a:ext cx="7010640" cy="16560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228600" y="6248520"/>
                <a:ext cx="393840" cy="16668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" name="">
              <a:hlinkClick r:id="rId1"/>
            </p:cNvPr>
            <p:cNvSpPr/>
            <p:nvPr/>
          </p:nvSpPr>
          <p:spPr>
            <a:xfrm>
              <a:off x="3352680" y="6477120"/>
              <a:ext cx="106704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in 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>
              <a:hlinkClick r:id="rId2" action="ppaction://hlinksldjump"/>
            </p:cNvPr>
            <p:cNvSpPr/>
            <p:nvPr/>
          </p:nvSpPr>
          <p:spPr>
            <a:xfrm>
              <a:off x="4724280" y="6477120"/>
              <a:ext cx="914400" cy="307080"/>
            </a:xfrm>
            <a:prstGeom prst="rect">
              <a:avLst/>
            </a:prstGeom>
            <a:solidFill>
              <a:srgbClr val="5f9997"/>
            </a:solidFill>
            <a:ln w="0">
              <a:noFill/>
            </a:ln>
            <a:effectLst>
              <a:outerShdw dist="17819" dir="2700000" blurRad="0" rotWithShape="0">
                <a:srgbClr val="9bc3c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763120" y="662940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8305560" y="6629040"/>
              <a:ext cx="15228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5715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5655"/>
                </a:solidFill>
                <a:latin typeface="Arial"/>
              </a:rPr>
              <a:t>Uncoupling Stack Elements</a:t>
            </a:r>
            <a:endParaRPr b="1" lang="en-US" sz="2800" spc="-1" strike="noStrike">
              <a:solidFill>
                <a:srgbClr val="5f9997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0" y="1752480"/>
          <a:ext cx="9144000" cy="360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52480"/>
                    <a:ext cx="9144000" cy="36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05877-3454-4937-8482-51E0911308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8T18:26:05Z</dcterms:created>
  <dc:creator>Navin</dc:creator>
  <dc:description/>
  <dc:language>en-US</dc:language>
  <cp:lastModifiedBy>William Ford</cp:lastModifiedBy>
  <cp:lastPrinted>1999-06-29T23:04:46Z</cp:lastPrinted>
  <dcterms:modified xsi:type="dcterms:W3CDTF">2001-08-26T23:12:33Z</dcterms:modified>
  <cp:revision>496</cp:revision>
  <dc:subject/>
  <dc:title>No Slide Title</dc:title>
</cp:coreProperties>
</file>